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10.wmf" ContentType="image/x-wmf"/>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8.jpeg" ContentType="image/jpeg"/>
  <Override PartName="/ppt/media/image13.jpeg" ContentType="image/jpeg"/>
  <Override PartName="/ppt/media/image14.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3624-73B8-4370-AF72-065F9E041EEF}"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der er tid kan man prioritere at bruge mere tid på dette modul end på det foregående, da den ekstra tid kan anvendes på øvelserne af briefing, opsummering og afrunding i dette modul. Hvis der ikke er tid må man enten vælge øvelser af briefing fra og lade det indgå i den afsluttende team-building-øvelse eller man må strukturere øvelserne for deltagerne, så de får udleveret en specifik case, de skal briefe udfr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ferencer til de enkelte redskaber findes i bilag 1 i ’Sikker Mundtlig Kommunikation. Baggrund, begreber og litteratur’</a:t>
            </a:r>
            <a:endParaRPr b="0" lang="en-US" sz="10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0920" y="692280"/>
            <a:ext cx="4556160" cy="341604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an har anvendt briefinger i mange brancher i mange år – som her i militæret og i sporten. De har også været anvendt i sundhedsvæsnet. En briefing kan dog anvendes i langt flere sammenhænge end det sker i sundhedsvæsnet i da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evt. om der ikke er nogen uddannelsessøgende, der har prøvet at stå som observatører til noget de ikke anede hvad var? Denne situation kan en briefing forebygge.</a:t>
            </a: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50920" y="692280"/>
            <a:ext cx="4556160" cy="34160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Her skal grupperne måske have hjælp til at finde en briefing-situatio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Nogle hændelser som en forveksling af patienter ved medicindispensering er svær at ’briefe sig ud af’. </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Briefinger kan typisk finde sted følgende steder:</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Morgenkonference</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Sygeplejerapport</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Forud for et operativt indgreb</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Forud for andre indgreb fx en gastroskopi, scanning, røntgenundersøgelse etc.</a:t>
            </a:r>
            <a:endParaRPr b="0" lang="en-US" sz="900" spc="-1" strike="noStrike">
              <a:solidFill>
                <a:srgbClr val="000000"/>
              </a:solidFill>
              <a:latin typeface="Verdana"/>
            </a:endParaRPr>
          </a:p>
          <a:p>
            <a:pPr>
              <a:lnSpc>
                <a:spcPct val="8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Forud for en stuegang</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Giv evt. et eksempel:</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En deltager har en medicineringsfejl med: To patienter hedder det samme og har derfor fået hinandens medici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Briefing:</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Sygeplejerapport i en sengeafdeling:</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a:t>
            </a:r>
            <a:r>
              <a:rPr b="0" lang="da-DK" sz="900" spc="-1" strike="noStrike">
                <a:solidFill>
                  <a:srgbClr val="000000"/>
                </a:solidFill>
                <a:latin typeface="Verdana"/>
              </a:rPr>
              <a:t>Ja, så er det blevet mandag og det er dagvagt. Jeg hedder Lotte og er afdelingssygeplejerske. Hvis I kort lige vil præsentere jer og jeres funktio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a:t>
            </a:r>
            <a:r>
              <a:rPr b="0" lang="da-DK" sz="900" spc="-1" strike="noStrike">
                <a:solidFill>
                  <a:srgbClr val="000000"/>
                </a:solidFill>
                <a:latin typeface="Verdana"/>
              </a:rPr>
              <a:t>Jeg hedder Annesofie og er sygeplejerske’</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Jeg hedder (etc.)’</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Lotte: ’Vi har 25 patienter i afdelingen, dvs. der er en enkelt patient, der ligger på gangen. Jeg foreslår at Annesofie og Mille tager gruppe A, Beate og Lone gruppe B (etc.). Lone og Mille er teamansvarlige og står for medicinadministratio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Vær opmærksom på, at vi har to patienter i gruppe B, der hedder Poul Nielsen. Vi bør flytte den ene over i gruppe A, da vi må forebygge forveksling. Mille, vil du sørge for det efterfølgende? Jeg forventer, at I siger til, hvis I opdager noget der bekymrer jer i afdelingen. God arbejdslyst’</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Hvis der i undervisningen er tale om, at disse redskaber tager for lang tid, kan man i forlængelse af denne øvelse bede deltagerne tage tid på at gennemføre en briefing.</a:t>
            </a:r>
            <a:endParaRPr b="0" lang="en-US" sz="9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92280"/>
            <a:ext cx="4556160" cy="34160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ointe: Kniven er endnu ikke er sat i patienten og det han gør er derfor at briefe, forudse sikkerhedsproblemer og ’sige til’. Konklusion: Det er en briefing!</a:t>
            </a: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50920" y="692280"/>
            <a:ext cx="4556160" cy="34160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er mangler teamet også en briefing. Der er ingen teamleder, der har sagt ’Sig til…’ til teammedlemmerne og derfor får de to kirurger lov til at fortsætte. Der er med andre ord ikke en kultur, hvor man siger fra…</a:t>
            </a: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50920" y="692280"/>
            <a:ext cx="4556160" cy="34160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beskeden er en metode til kommunikation af vigtig information til alle i teame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an fx anvendes ved akut behandling af kritisk syge patienter, hvor en større gruppe personale er samlet om patienten, og har brug for den samme information. Teambeskeder gives som regel teamlederen med svar fra et teammedlem. Teambeskeden kommunikeres så højt at alle, der skal høre det, kan høre d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Eksempel fra en akutmodtag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 ’Peter er der frie luftvej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eter: ’Luftveje fri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 ’Susanne er der fri vejrtræk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usanne: ’Der er respirationslyde bilateral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 ’Hans, hvad er blodtrykk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ans: ’Blodtryk 90/50’</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beskeden har særligt sin berettigelse i større teams, hvor der er en del aktivitet, der kan betyde, at vigtige beskeder overhøres.</a:t>
            </a: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50920" y="692280"/>
            <a:ext cx="4556160" cy="34160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11.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ed en opsummering skaber teamet overblik over opgaven med det formål at dele viden og finde løsninger på problemer. Opsummeringen medvirker til at bevare situationsbevidsthed og skabe fælles forstå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psummeringen hjælper til at bevare situationsbevidsthed og skabe fælles forståelse. I praksis bør man anvende en opsummering, hvis der kommer nye teammedlemmer til, som har behov for at modtage eller afgive information til teamet fx en kollega, der overtager en kollegas funktion ved et vagtskifte midt i en opgave, en mave-tarm-kirurg, der kaldes til en traumepatient, en anæstesiolog, der kaldes til en dårlig patient eller en børnelæge, der kaldes til en fødestue, hvor der er født et barn med behov for fx iltbehandling. </a:t>
            </a:r>
            <a:endParaRPr b="0" lang="en-US" sz="10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50920" y="692280"/>
            <a:ext cx="4556160" cy="34160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rupperne skal måske have lidt hjælp til at forestille sig situation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iv et eksempel: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l. er nu 12 på sengeafdeli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otte: ’Vi har fået udskrevet tre patienter under stuegang. De venter alle tre på at komme hjem. Vi har fået besked fra AMA om at de gerne vil overflytte fire patienter hertil snarest. De kan vente et par timer med den ene, men de tre andre vil de gerne have herop. Det giver os problemer med overbelægning. Den ene der kommer, en kvinde på 87 år har brug for ilt, så jeg forslår, at vi lægger hende ind på stue 9. De andre må ligge på gangen indtil de andre patienter er hentet eller taget hje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ille: ’Det ser ud til, at vi har tre patienter i overbelægning i aftenvagten. Kan vi kalde ekstra personale in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otte: ’God idé. Jeg prøver at ringe til Else.’</a:t>
            </a:r>
            <a:endParaRPr b="0" lang="en-US" sz="10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50920" y="692280"/>
            <a:ext cx="4556160" cy="34160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12.</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frundingen er en metode ved afslutning af en opgave til kommunikation om, hvordan en proces kan forbedres. Varetages af de tilbageværende teammedlemmer efter opgaven. Formålet er desuden at sikre, at evt. utilsigtede hændelser rapporteres med det formål at gøre opmærksom på problemstillinger på et organisatorisk niveau.</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listen gennemgås. Afrundingen øves efter den afsluttende teamøvelse.</a:t>
            </a: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50920" y="692280"/>
            <a:ext cx="4556160" cy="341604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ansk tekst: ’Selvom operationen var kaotisk, så føler jeg faktisk, at den gik meget god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fx: Er det noget I kan genkende eller er det for overdrevet?</a:t>
            </a: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0920" y="692280"/>
            <a:ext cx="4556160" cy="34160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kre sætninger er sætninger man kender betydningen af, og som kan anvendes ved teamdannelse (Se Håndbog i Sikker Mundtlig Kommunikation side 13). Begrebet stammer fra luftfarten (’Critical language’), hvor man anvender standardiserede sætninger til både rutineprocedurer og krisesituationer (Vi kender remsen fra kabinepersonalet umiddelbart før take off på en flyvning: ’Cabin crew, close doors - arm slides-cross check and safety annoncement’, ’cabin checked’ og ’cabin clear’ (det sidste til cockpittet) og så er der take off).</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Hvem er teamleder?’</a:t>
            </a:r>
            <a:r>
              <a:rPr b="0" lang="da-DK" sz="1000" spc="-1" strike="noStrike">
                <a:solidFill>
                  <a:srgbClr val="000000"/>
                </a:solidFill>
                <a:latin typeface="Verdana"/>
              </a:rPr>
              <a:t> kan anvendes, hvis man kommer til et team og er i tvivl om, hvem der er teamle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Jeg forventer, at I siger til, hvis I opdager noget der er usikkert!</a:t>
            </a:r>
            <a:r>
              <a:rPr b="0" lang="da-DK" sz="1000" spc="-1" strike="noStrike">
                <a:solidFill>
                  <a:srgbClr val="000000"/>
                </a:solidFill>
                <a:latin typeface="Verdana"/>
              </a:rPr>
              <a:t>’ kan anvendes af teamlederen, hvis teamet tøver med at komme med input til teamlederen eller som indledning til et teamsamarbejde, hvor teamlederen vil markere, at inputs er velkomn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Lad os opsummere…</a:t>
            </a:r>
            <a:r>
              <a:rPr b="0" lang="da-DK" sz="1000" spc="-1" strike="noStrike">
                <a:solidFill>
                  <a:srgbClr val="000000"/>
                </a:solidFill>
                <a:latin typeface="Verdana"/>
              </a:rPr>
              <a:t>’ kan bruges af teamleder eller teammedelmmer, hvis der er brug for at skabe overblik eller finde løsnin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lang="da-DK" sz="1000" spc="-1" strike="noStrike">
                <a:solidFill>
                  <a:srgbClr val="000000"/>
                </a:solidFill>
                <a:latin typeface="Verdana"/>
              </a:rPr>
              <a:t>Jeg er bekymret, fordi…</a:t>
            </a:r>
            <a:r>
              <a:rPr b="0" lang="da-DK" sz="1000" spc="-1" strike="noStrike">
                <a:solidFill>
                  <a:srgbClr val="000000"/>
                </a:solidFill>
                <a:latin typeface="Verdana"/>
              </a:rPr>
              <a:t>’ kan anvendes af teamleder eller teammedlemmer, hvis der er et sikkerhedsproblem.</a:t>
            </a:r>
            <a:endParaRPr b="0" lang="en-US" sz="10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50920" y="692280"/>
            <a:ext cx="4556160" cy="341604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modulets indhold for deltagerne</a:t>
            </a: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6160" cy="34160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Instruk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ltagerne skal nu øve alt det de har lær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nderviserne observerer grupperne til brug for den efterfølgende afrunding i plenu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Håndbog i Sikker Mundtlig Kommunikation’ må gerne anvend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er gruppe har fået udleveret lige meget papir (ca. 250 A4 ark kopipapir), 2 ruller tape og to saks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skal desuden bruges tre legetøjskøretøj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tre skal være af stigende størrelse, dvs. ca. 250 gram, 750 gram og 1500 gram</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skal kunne trækkes vha. en snor, der sidder foran fx i kofangeren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mindste skal være ca. 10 cm, den mellemste ca. 15 cm og den største ca. 20 cm høj.</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findes et sæt med politi-bil, ambulance og brandbil med Falck-logoer (kan fås i Toys ’r Us), der passer. Ellers kan man i en hver velassorteret legetøjsbutik udvælge tre biler/lastbiler, der pass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istorien e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I er et hold af ingeniører, der skal hjælpe hhv. politi, ambulance og brandvæsen frem til en væltet bus på en motorvej. Politibilen standser ulykken. Ambulancen kan transportere de sårede til sygehuset og brandbilen kan slukke branden i bussens bagagerum. Problemet er, at broen fra Falck-stationen til motorvejen er braset sammen. Heldigvis har I det rigtige udstyr til at bygge en bro.</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får derfor nu 23 minutter (det er testet – de skal hverken have mere eller mindre) til at bygge en bro.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hold, der først får bygget en bro, der opfylder et af følgende kriterier, har vund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ilen skal kunne køre over eller under ved træk i snoren (ikke holde bil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ilen skal kunne køre under broen (tillægspoin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er tre biler. Jo større bil, der kan passere over/under broen, desto flere points.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tildeles 1 point for opfyldelse af hver af de teamkompetencer I har lært i dag, og et point for hvert redskab fra håndbogen I anven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tvivlstilfælde: tilkald en bagvagt vha. ISB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ag tid: Øvelsen afsluttes og der tælles points efter </a:t>
            </a:r>
            <a:r>
              <a:rPr b="1" lang="da-DK" sz="1000" spc="-1" strike="noStrike">
                <a:solidFill>
                  <a:srgbClr val="000000"/>
                </a:solidFill>
                <a:latin typeface="Verdana"/>
              </a:rPr>
              <a:t>23 minutter</a:t>
            </a:r>
            <a:r>
              <a:rPr b="0" lang="da-DK" sz="1000" spc="-1" strike="noStrike">
                <a:solidFill>
                  <a:srgbClr val="000000"/>
                </a:solidFill>
                <a:latin typeface="Verdana"/>
              </a:rPr>
              <a: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Pointoptælling: Se næste sli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mmentar til billederne på slidet: De viser forskellige teambuildingøvels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bservation af teamkompetencer: Se referencer af (Lingard, 2002, 2005 og AN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0920" y="692280"/>
            <a:ext cx="4556160" cy="341604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frund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nden pointoptællingen gennemfører deltagere og observatører en afrunding som beskrevet i håndbog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ær opmærksom på, at øvelsen kan udløse følelser i grupperne, der minder om de følelser, der kan opstå i hverdagens stressende teamsituationer. Forsøg – så vidt muligt – at få dette talt igennem under afrundingen. Observatørerne og underviserne har her en vigtig rolle med at sørge for, at alle (også teamlederen) bliver hørt, og at der kommer fokus på det konstruktive, og det deltagerne har lær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Pointoptæll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rupperne kommer typisk de 14 kompetencer på side 10 igennem. Derudover er tjeksvar, teambesked, nødbremsen, sikre sætninger, briefing, opsummering, afrunding  og evt. ISBAR’en relevan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ug observatørernes observationer til at tælle points samm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ind evt. en præmie til det vindende hol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2280"/>
            <a:ext cx="4556160" cy="341604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psummer kort modulet, hvis der er tid.</a:t>
            </a: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50920" y="692280"/>
            <a:ext cx="4556160" cy="341604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første strategi til godt teamwork er at sikre, at der er en teamleder (se håndbogen side 10).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Organiserer teamet</a:t>
            </a:r>
            <a:r>
              <a:rPr b="0" lang="da-DK" sz="1000" spc="-1" strike="noStrike">
                <a:solidFill>
                  <a:srgbClr val="000000"/>
                </a:solidFill>
                <a:latin typeface="Verdana"/>
              </a:rPr>
              <a:t>: Teamlederen taler til teammedlemmerne og fremlægger en plan, så de forskelliges roller er klar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deler arbejdsopgaver</a:t>
            </a:r>
            <a:r>
              <a:rPr b="0" lang="da-DK" sz="1000" spc="-1" strike="noStrike">
                <a:solidFill>
                  <a:srgbClr val="000000"/>
                </a:solidFill>
                <a:latin typeface="Verdana"/>
              </a:rPr>
              <a:t>: De fleste vil for det meste have veldefinerede roller i veldefinerede teams, men en kort rollefordeling sikrer, at alle ved, at teamlederen har ’set dem’, og at de forventes at gøre det de plej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dtrykker mål</a:t>
            </a:r>
            <a:r>
              <a:rPr b="0" lang="da-DK" sz="1000" spc="-1" strike="noStrike">
                <a:solidFill>
                  <a:srgbClr val="000000"/>
                </a:solidFill>
                <a:latin typeface="Verdana"/>
              </a:rPr>
              <a:t>: Hvis teamet skal arbejde mod det samme bør alle kende målet. Fx ’Vi skal gøre patienten klar til røntgen’ eller ’Vi skal have isat en ny aortaklap’. Er et vigtigt led i at opbygge en ’fælles forstå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Bevarer overblikket</a:t>
            </a:r>
            <a:r>
              <a:rPr b="0" lang="da-DK" sz="1000" spc="-1" strike="noStrike">
                <a:solidFill>
                  <a:srgbClr val="000000"/>
                </a:solidFill>
                <a:latin typeface="Verdana"/>
              </a:rPr>
              <a:t>: Teamlederen bør ikke selv være bundet til praktiske opgaver, der kræver for meget fordybelse. Under en operation kan kirurgen være teamleder, og samtidig fordybet i tekniske vanskelige opgaver. I så fald er teamlederen helt afhængig af inputs, da fokus på en snæver del af patienten kan fjerne fokus fra andre dele fx vejrtrækning eller cirkul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ræffer beslutninger efter input fra teamet</a:t>
            </a:r>
            <a:r>
              <a:rPr b="0" lang="da-DK" sz="1000" spc="-1" strike="noStrike">
                <a:solidFill>
                  <a:srgbClr val="000000"/>
                </a:solidFill>
                <a:latin typeface="Verdana"/>
              </a:rPr>
              <a:t>: Teamlederen er afhængig af input fra teamet og bør inddrage disse input i alle beslutning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ager initiativ til briefing, opsummering og afrunding</a:t>
            </a:r>
            <a:r>
              <a:rPr b="0" lang="da-DK" sz="1000" spc="-1" strike="noStrike">
                <a:solidFill>
                  <a:srgbClr val="000000"/>
                </a:solidFill>
                <a:latin typeface="Verdana"/>
              </a:rPr>
              <a:t>: Teamlederen tager input til informationsudveksling i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Løser konflikter</a:t>
            </a:r>
            <a:r>
              <a:rPr b="0" lang="da-DK" sz="1000" spc="-1" strike="noStrike">
                <a:solidFill>
                  <a:srgbClr val="000000"/>
                </a:solidFill>
                <a:latin typeface="Verdana"/>
              </a:rPr>
              <a:t>: Teamlederen har overblikket og vil derfor ofte være dem, der bemærker konflikter i teamet. Dette r teamlederen opgave at søge at løse disse konflikt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50920" y="692280"/>
            <a:ext cx="4556160" cy="341604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slide, der vender det foregående på hovedet, indikerer, at påtager man sig ovenstående opgaver, gør man måske ikke sig selv til ekspert på et kompliceret klinisk område, men man påtager sig teamledelsen. Derved kan andre end lige overlægen sagtens være teamledere. Særligt hvis pågældende modtager kvalificerede inputs fra de erfarne teammedlemm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deltagerne: Hvem kan være teamleder ud fra det der står på slidet? Der kan komme diskussion af, hvilke faggrupper, specialer og titler, der kan være teamleder. Det væsentlige er, at er bliver fundet en teamleder, da det er det man ved har indflydelse på sikkerheden. Man kan godt starte med én teamleder og skifte teamledelse undervejs. </a:t>
            </a: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50920" y="692280"/>
            <a:ext cx="4556160" cy="341604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teammedlemmernes roller (Håndbogen side 10). Spørg evt. om nogen er uenig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Deltager i beslutningstagning</a:t>
            </a:r>
            <a:r>
              <a:rPr b="0" lang="da-DK" sz="1000" spc="-1" strike="noStrike">
                <a:solidFill>
                  <a:srgbClr val="000000"/>
                </a:solidFill>
                <a:latin typeface="Verdana"/>
              </a:rPr>
              <a:t>: Teammedlemmer kan være eksperterne, hvor teamlederen kan være generalist (jf. de forrige slides). Derfor er teammedlemmernes aktive deltagelse og inputs med observationer eller specialviden afgørend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Giver information og feedback</a:t>
            </a:r>
            <a:r>
              <a:rPr b="0" lang="da-DK" sz="1000" spc="-1" strike="noStrike">
                <a:solidFill>
                  <a:srgbClr val="000000"/>
                </a:solidFill>
                <a:latin typeface="Verdana"/>
              </a:rPr>
              <a:t>: Fordi to par øjne ser bedre end et par er teammedlemmernes inputs afgørende – selvom teamlederen selv kunne have observeret det samm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tøtter andre teammedlemmer og tilbyder assistance</a:t>
            </a:r>
            <a:r>
              <a:rPr b="0" lang="da-DK" sz="1000" spc="-1" strike="noStrike">
                <a:solidFill>
                  <a:srgbClr val="000000"/>
                </a:solidFill>
                <a:latin typeface="Verdana"/>
              </a:rPr>
              <a:t>: Leder tilbage til ’gensidig opbak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står deres roller</a:t>
            </a:r>
            <a:r>
              <a:rPr b="0" lang="da-DK" sz="1000" spc="-1" strike="noStrike">
                <a:solidFill>
                  <a:srgbClr val="000000"/>
                </a:solidFill>
                <a:latin typeface="Verdana"/>
              </a:rPr>
              <a:t>: Det er væsentligt, at de roller teamlederen har fordelt følges. Er rollerne ikke forstået, kan man ikke leve op til den tildelte rolle, eller ønsker man at omdefinere sin rolle må dette kommunikeres til teamleder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iger til og fra</a:t>
            </a:r>
            <a:r>
              <a:rPr b="0" lang="da-DK" sz="1000" spc="-1" strike="noStrike">
                <a:solidFill>
                  <a:srgbClr val="000000"/>
                </a:solidFill>
                <a:latin typeface="Verdana"/>
              </a:rPr>
              <a:t>: Jf. ’Assertion’/’sige til og fra’.</a:t>
            </a: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50920" y="692280"/>
            <a:ext cx="4556160" cy="341604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ksempl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Ingen teamleder: </a:t>
            </a:r>
            <a:r>
              <a:rPr b="0" lang="da-DK" sz="1000" spc="-1" strike="noStrike">
                <a:solidFill>
                  <a:srgbClr val="000000"/>
                </a:solidFill>
                <a:latin typeface="Verdana"/>
              </a:rPr>
              <a:t>Er et problem, fordi ingen træffer beslutningerne, og indsatsen derfor ikke koordineres – den fælles forståelse kan svigt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lere teamledere</a:t>
            </a:r>
            <a:r>
              <a:rPr b="0" lang="da-DK" sz="1000" spc="-1" strike="noStrike">
                <a:solidFill>
                  <a:srgbClr val="000000"/>
                </a:solidFill>
                <a:latin typeface="Verdana"/>
              </a:rPr>
              <a:t>: Hvis kirurgen har været teamleder og så kommer der en anæstesiolog, der har mere erfaring på området kan teammedlemmerne blive i tvivl om, hvem der er teamleder. Det er derfor vigtigt, at teamlederen direkte eller indirekte markerer, hvem der har teamledels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rollefordeling:</a:t>
            </a:r>
            <a:r>
              <a:rPr b="0" lang="da-DK" sz="1000" spc="-1" strike="noStrike">
                <a:solidFill>
                  <a:srgbClr val="000000"/>
                </a:solidFill>
                <a:latin typeface="Verdana"/>
              </a:rPr>
              <a:t> Hvis de enkelte teammedlemmer ikke kender deres opgave, kan de blive passive eller begynde at gøre noget forker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 stor respekt for autoriteter:</a:t>
            </a:r>
            <a:r>
              <a:rPr b="0" lang="da-DK" sz="1000" spc="-1" strike="noStrike">
                <a:solidFill>
                  <a:srgbClr val="000000"/>
                </a:solidFill>
                <a:latin typeface="Verdana"/>
              </a:rPr>
              <a:t> Teammedlemmer kan fx tøve med at komme med inputs til en teamle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 lille respekt for autoriteter:</a:t>
            </a:r>
            <a:r>
              <a:rPr b="0" lang="da-DK" sz="1000" spc="-1" strike="noStrike">
                <a:solidFill>
                  <a:srgbClr val="000000"/>
                </a:solidFill>
                <a:latin typeface="Verdana"/>
              </a:rPr>
              <a:t> Teammedlemmerne kan vælge at overhøre teamlederens planlægning og vælge en anden opgaveløsning. Det giver svigt i den fælles forståelse og øger risikoen for fejl.</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dskiftning i teammedlemmer</a:t>
            </a:r>
            <a:r>
              <a:rPr b="0" lang="da-DK" sz="1000" spc="-1" strike="noStrike">
                <a:solidFill>
                  <a:srgbClr val="000000"/>
                </a:solidFill>
                <a:latin typeface="Verdana"/>
              </a:rPr>
              <a:t>: De nye, der kommer til, ved ikke hvad der er gået forud </a:t>
            </a:r>
            <a:r>
              <a:rPr b="0" lang="da-DK" sz="1000" spc="-1" strike="noStrike">
                <a:solidFill>
                  <a:srgbClr val="000000"/>
                </a:solidFill>
                <a:latin typeface="Wingdings"/>
                <a:ea typeface="Wingdings"/>
              </a:rPr>
              <a:t></a:t>
            </a:r>
            <a:r>
              <a:rPr b="0" lang="da-DK" sz="1000" spc="-1" strike="noStrike">
                <a:solidFill>
                  <a:srgbClr val="000000"/>
                </a:solidFill>
                <a:latin typeface="Verdana"/>
              </a:rPr>
              <a:t> har ingen fælles forståelse. De har brug for en briefing eller lang tids erfaring for umiddelbart at kunne indgå i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Konflikt mellem personligheder</a:t>
            </a:r>
            <a:r>
              <a:rPr b="0" lang="da-DK" sz="1000" spc="-1" strike="noStrike">
                <a:solidFill>
                  <a:srgbClr val="000000"/>
                </a:solidFill>
                <a:latin typeface="Verdana"/>
              </a:rPr>
              <a:t>: Åben konflikt mellem teammedlemmer kan skabe svigt i den fælles forståelse og fjerne fokus fra opgaven for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anglende erfaring:</a:t>
            </a:r>
            <a:r>
              <a:rPr b="0" lang="da-DK" sz="1000" spc="-1" strike="noStrike">
                <a:solidFill>
                  <a:srgbClr val="000000"/>
                </a:solidFill>
                <a:latin typeface="Verdana"/>
              </a:rPr>
              <a:t> Kræver en årvågen teamleder eller et ærligt teammedlem at indrømme overfor teamet, at man ikke er sikker på, at mane er i stand til at løse opgav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kjulte dagsordner</a:t>
            </a:r>
            <a:r>
              <a:rPr b="0" lang="da-DK" sz="1000" spc="-1" strike="noStrike">
                <a:solidFill>
                  <a:srgbClr val="000000"/>
                </a:solidFill>
                <a:latin typeface="Verdana"/>
              </a:rPr>
              <a:t>: Enkelte teammedlemmer kan have andre mål end de andre. I nogle tilfælde kan de forhindre en sikker opgaveløsning. Eks.: Hvis et teammedlem gerne vil hjem til tiden i stedet for at blive en time længere til en kompliceret opgave, kan det påvirke vedkommendes inputs til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redskaber, der skitseres på de næste slides kan alle anvendes til at forsøge at overkomme ovenstående udfordrin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50920" y="692280"/>
            <a:ext cx="4556160" cy="341604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u gennemgås de redskaber, der kan anvendes for at sikre et godt teamsamarbejde via informationsudveksling og fælles forståelse</a:t>
            </a: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50920" y="692280"/>
            <a:ext cx="4556160" cy="341604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11.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der er en struktureret informationsproces forud for en opgav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føres af teamleder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kan anvendes forud for stort set enhver opgaveløsn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bør anvendes forud for alle indgreb, for at sikre korrekt patient, indgreb, side, billeddokumentation og evt. udsty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iefingen er kortvarig (fx et-to minutter forud for en større oper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briefing kan også anvendes ved forud for fx en stuegang, hvor man kan justere roller og ansvar eller forventede problemer i relation til bestemte patien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eamlederen kan afslutte briefingen med at bede teammedlemmerne sige til, hvis de opdager noget, der er usikkert. Dette er en væsentlig del af at sikre et samarbejdsklima, der fordrer inputs fra al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ogle anbefaler, at teamlederen former hænderne til et T som i en amerikansk fodboldkamp. Denne del er dog mindre væsentlig, hvis det kan afholde nogen fra at gennemføre briefingen. Dog kan hænderne formet som et T medvirke til at opmærksomheden samler sig i fx et større team som på en operationsstu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undhedsstyrelsen anbefaler at der indgår en briefing forud for alle operative indgreb (www.sst.dk, www.de5trin.dk)</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ood.army.mil/4id_2ndbde/images/NTC/Safety%20Briefing.JPG" TargetMode="External"/><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images.google.dk/imgres?imgurl=http://rosemaryamey.ca/images/artwork/doctor.gif&amp;imgrefurl=http://rosemaryamey.ca/artwork/doctor.html&amp;h=500&amp;w=310&amp;sz=12&amp;hl=da&amp;start=191&amp;tbnid=d0hxTHdNESRjbM:&amp;tbnh=130&amp;tbnw=81&amp;prev=/images%3Fq%3Ddoctor%26start%3D180%26ndsp%3D20%26svnum%3D10%26hl%3Dda%26sa%3DN"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520"/>
            <a:ext cx="7772400" cy="35812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a-DK" sz="3600" spc="-1" strike="noStrike">
                <a:solidFill>
                  <a:srgbClr val="000000"/>
                </a:solidFill>
                <a:latin typeface="Verdana"/>
              </a:rPr>
              <a:t>Modul 4</a:t>
            </a:r>
            <a:br>
              <a:rPr sz="3600"/>
            </a:br>
            <a:br>
              <a:rPr sz="3600"/>
            </a:br>
            <a:r>
              <a:rPr b="1" lang="da-DK" sz="4400" spc="-1" strike="noStrike">
                <a:solidFill>
                  <a:srgbClr val="000000"/>
                </a:solidFill>
                <a:latin typeface="Verdana"/>
                <a:ea typeface="Times New Roman"/>
              </a:rPr>
              <a:t>Teamsamarbejde</a:t>
            </a:r>
            <a:br>
              <a:rPr sz="4400"/>
            </a:br>
            <a:r>
              <a:rPr b="1" lang="da-DK" sz="3600" spc="-1" strike="noStrike">
                <a:solidFill>
                  <a:srgbClr val="000000"/>
                </a:solidFill>
                <a:latin typeface="Times New Roman"/>
                <a:ea typeface="Times New Roman"/>
              </a:rPr>
              <a:t>	</a:t>
            </a:r>
            <a:r>
              <a:rPr b="1" lang="da-DK"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 (2)</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73360"/>
            <a:ext cx="453384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må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veksling af information </a:t>
            </a:r>
            <a:r>
              <a:rPr b="0" lang="da-DK" sz="2800" spc="-1" strike="noStrike">
                <a:solidFill>
                  <a:srgbClr val="000000"/>
                </a:solidFill>
                <a:latin typeface="Wingdings"/>
                <a:ea typeface="Wingdings"/>
              </a:rPr>
              <a:t></a:t>
            </a:r>
            <a:r>
              <a:rPr b="0" lang="da-DK" sz="2800" spc="-1" strike="noStrike">
                <a:solidFill>
                  <a:srgbClr val="000000"/>
                </a:solidFill>
                <a:latin typeface="Verdana"/>
              </a:rPr>
              <a:t> sikre den fælles forståel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dannelses-potentia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bedrer sikkerheden og arbejdsmiljøet</a:t>
            </a:r>
            <a:endParaRPr b="0" lang="en-US" sz="2800" spc="-1" strike="noStrike">
              <a:solidFill>
                <a:srgbClr val="000000"/>
              </a:solidFill>
              <a:latin typeface="Times New Roman"/>
            </a:endParaRPr>
          </a:p>
        </p:txBody>
      </p:sp>
      <p:pic>
        <p:nvPicPr>
          <p:cNvPr id="68" name="" descr="">
            <a:hlinkClick r:id="rId1"/>
          </p:cNvPr>
          <p:cNvPicPr/>
          <p:nvPr/>
        </p:nvPicPr>
        <p:blipFill>
          <a:blip r:embed="rId2"/>
          <a:stretch/>
        </p:blipFill>
        <p:spPr>
          <a:xfrm>
            <a:off x="5292720" y="2637000"/>
            <a:ext cx="3097080" cy="318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øvelse</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0720"/>
            <a:ext cx="7772400" cy="38862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ver gruppe vælger en af ’jeres egne hændels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estil jer, at teamlederen gennemfører en briefing forud for hændelse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lternativ: Find en case fra ISBAR-casene og forestil jer, at I står i skadestuen/OP/A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nvend tjeklisten i håndbog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60" y="74160"/>
            <a:ext cx="67071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a:t>
            </a:r>
            <a:endParaRPr b="0" lang="en-US" sz="4000" spc="-1" strike="noStrike">
              <a:solidFill>
                <a:srgbClr val="000000"/>
              </a:solidFill>
              <a:latin typeface="Times New Roman"/>
            </a:endParaRPr>
          </a:p>
        </p:txBody>
      </p:sp>
      <p:pic>
        <p:nvPicPr>
          <p:cNvPr id="72" name="" descr=""/>
          <p:cNvPicPr/>
          <p:nvPr/>
        </p:nvPicPr>
        <p:blipFill>
          <a:blip r:embed="rId1"/>
          <a:stretch/>
        </p:blipFill>
        <p:spPr>
          <a:xfrm>
            <a:off x="1042920" y="1700280"/>
            <a:ext cx="6985080" cy="4194000"/>
          </a:xfrm>
          <a:prstGeom prst="rect">
            <a:avLst/>
          </a:prstGeom>
          <a:ln w="0">
            <a:noFill/>
          </a:ln>
        </p:spPr>
      </p:pic>
      <p:sp>
        <p:nvSpPr>
          <p:cNvPr id="73" name=""/>
          <p:cNvSpPr/>
          <p:nvPr/>
        </p:nvSpPr>
        <p:spPr>
          <a:xfrm>
            <a:off x="6804000" y="56610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4520" y="74520"/>
            <a:ext cx="6859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a:t>
            </a:r>
            <a:endParaRPr b="0" lang="en-US" sz="4000" spc="-1" strike="noStrike">
              <a:solidFill>
                <a:srgbClr val="000000"/>
              </a:solidFill>
              <a:latin typeface="Times New Roman"/>
            </a:endParaRPr>
          </a:p>
        </p:txBody>
      </p:sp>
      <p:pic>
        <p:nvPicPr>
          <p:cNvPr id="75" name="" descr=""/>
          <p:cNvPicPr/>
          <p:nvPr/>
        </p:nvPicPr>
        <p:blipFill>
          <a:blip r:embed="rId1"/>
          <a:stretch/>
        </p:blipFill>
        <p:spPr>
          <a:xfrm>
            <a:off x="755640" y="1738440"/>
            <a:ext cx="7704000" cy="433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5"/>
                    </p:tgtEl>
                  </p:cond>
                </p:stCondLst>
                <p:childTnLst>
                  <p:par>
                    <p:cTn id="3" fill="hold">
                      <p:stCondLst>
                        <p:cond evt="onClick">
                          <p:tgtEl>
                            <p:spTgt spid="7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520" y="74160"/>
            <a:ext cx="65548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Teambesked</a:t>
            </a:r>
            <a:endParaRPr b="0" lang="en-US" sz="4000" spc="-1" strike="noStrike">
              <a:solidFill>
                <a:srgbClr val="000000"/>
              </a:solidFill>
              <a:latin typeface="Times New Roman"/>
            </a:endParaRPr>
          </a:p>
        </p:txBody>
      </p:sp>
      <p:pic>
        <p:nvPicPr>
          <p:cNvPr id="77" name="" descr=""/>
          <p:cNvPicPr/>
          <p:nvPr/>
        </p:nvPicPr>
        <p:blipFill>
          <a:blip r:embed="rId1"/>
          <a:stretch/>
        </p:blipFill>
        <p:spPr>
          <a:xfrm>
            <a:off x="1187280" y="1557360"/>
            <a:ext cx="6553440" cy="3335400"/>
          </a:xfrm>
          <a:prstGeom prst="rect">
            <a:avLst/>
          </a:prstGeom>
          <a:ln w="0">
            <a:noFill/>
          </a:ln>
        </p:spPr>
      </p:pic>
      <p:pic>
        <p:nvPicPr>
          <p:cNvPr id="78" name="" descr="">
            <a:hlinkClick r:id="rId2"/>
          </p:cNvPr>
          <p:cNvPicPr/>
          <p:nvPr/>
        </p:nvPicPr>
        <p:blipFill>
          <a:blip r:embed="rId3"/>
          <a:stretch/>
        </p:blipFill>
        <p:spPr>
          <a:xfrm>
            <a:off x="6948360" y="2997360"/>
            <a:ext cx="1086120" cy="1742760"/>
          </a:xfrm>
          <a:prstGeom prst="rect">
            <a:avLst/>
          </a:prstGeom>
          <a:ln w="0">
            <a:noFill/>
          </a:ln>
        </p:spPr>
      </p:pic>
      <p:pic>
        <p:nvPicPr>
          <p:cNvPr id="79" name="" descr=""/>
          <p:cNvPicPr/>
          <p:nvPr/>
        </p:nvPicPr>
        <p:blipFill>
          <a:blip r:embed="rId4"/>
          <a:stretch/>
        </p:blipFill>
        <p:spPr>
          <a:xfrm>
            <a:off x="468360" y="3279600"/>
            <a:ext cx="1942920" cy="1725840"/>
          </a:xfrm>
          <a:prstGeom prst="rect">
            <a:avLst/>
          </a:prstGeom>
          <a:ln w="0">
            <a:noFill/>
          </a:ln>
        </p:spPr>
      </p:pic>
      <p:pic>
        <p:nvPicPr>
          <p:cNvPr id="80" name="" descr=""/>
          <p:cNvPicPr/>
          <p:nvPr/>
        </p:nvPicPr>
        <p:blipFill>
          <a:blip r:embed="rId5"/>
          <a:stretch/>
        </p:blipFill>
        <p:spPr>
          <a:xfrm>
            <a:off x="3780000" y="4513320"/>
            <a:ext cx="1512720" cy="138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520" y="74160"/>
            <a:ext cx="6631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828800"/>
            <a:ext cx="7772400" cy="37339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mål: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ber overblik og fælles forståel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inder løsninger</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pørg: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Hvad er der sket og hvad skal der sk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r der nogle problemer eller bekymring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Hvilke ressourcer eller løsninger er d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s-øvelse</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tsæt, hvor I slap jeres briefing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r er nu gået noget ti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 har brug for en opsummer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eamlederen uddelegerer nu en opsummering til den, der sidder til højre for sig – kollegerne bidrag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nvend tjeklisten i håndbo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188640"/>
            <a:ext cx="678348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Afrunding - tjekliste</a:t>
            </a:r>
            <a:endParaRPr b="0" lang="en-US" sz="4000" spc="-1" strike="noStrike">
              <a:solidFill>
                <a:srgbClr val="000000"/>
              </a:solidFill>
              <a:latin typeface="Times New Roman"/>
            </a:endParaRPr>
          </a:p>
        </p:txBody>
      </p:sp>
      <p:pic>
        <p:nvPicPr>
          <p:cNvPr id="86" name="" descr=""/>
          <p:cNvPicPr/>
          <p:nvPr/>
        </p:nvPicPr>
        <p:blipFill>
          <a:blip r:embed="rId1"/>
          <a:stretch/>
        </p:blipFill>
        <p:spPr>
          <a:xfrm>
            <a:off x="1187280" y="1050840"/>
            <a:ext cx="6264360" cy="482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24000" y="189000"/>
            <a:ext cx="67831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ehov for en afrunding?</a:t>
            </a:r>
            <a:endParaRPr b="0" lang="en-US" sz="4000" spc="-1" strike="noStrike">
              <a:solidFill>
                <a:srgbClr val="000000"/>
              </a:solidFill>
              <a:latin typeface="Times New Roman"/>
            </a:endParaRPr>
          </a:p>
        </p:txBody>
      </p:sp>
      <p:sp>
        <p:nvSpPr>
          <p:cNvPr id="88" name=""/>
          <p:cNvSpPr/>
          <p:nvPr/>
        </p:nvSpPr>
        <p:spPr>
          <a:xfrm>
            <a:off x="5653080" y="566100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Wulffmorgenthaler ©</a:t>
            </a:r>
            <a:endParaRPr b="0" lang="en-US" sz="1800" spc="-1" strike="noStrike">
              <a:solidFill>
                <a:srgbClr val="000000"/>
              </a:solidFill>
              <a:latin typeface="Times New Roman"/>
            </a:endParaRPr>
          </a:p>
        </p:txBody>
      </p:sp>
      <p:pic>
        <p:nvPicPr>
          <p:cNvPr id="89" name="" descr="Strip"/>
          <p:cNvPicPr/>
          <p:nvPr/>
        </p:nvPicPr>
        <p:blipFill>
          <a:blip r:embed="rId1"/>
          <a:stretch/>
        </p:blipFill>
        <p:spPr>
          <a:xfrm>
            <a:off x="250920" y="2158920"/>
            <a:ext cx="8569080" cy="296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920"/>
            <a:ext cx="693576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ikre Sætninger</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773000"/>
            <a:ext cx="7772400" cy="3816360"/>
          </a:xfrm>
          <a:prstGeom prst="rect">
            <a:avLst/>
          </a:prstGeom>
          <a:solidFill>
            <a:srgbClr val="ffffff"/>
          </a:solidFill>
          <a:ln w="0">
            <a:noFill/>
          </a:ln>
        </p:spPr>
        <p:txBody>
          <a:bodyPr lIns="90000" rIns="90000" tIns="46800" bIns="46800" anchor="t">
            <a:normAutofit/>
          </a:bodyPr>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Hvem er teamleder?’</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Jeg forventer, at I siger til, hvis I opdager noget, der er usikkert!’</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Lad os opsummere…’</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t>
            </a:r>
            <a:r>
              <a:rPr b="0" lang="da-DK" sz="3600" spc="-1" strike="noStrike">
                <a:solidFill>
                  <a:srgbClr val="000000"/>
                </a:solidFill>
                <a:latin typeface="Verdana"/>
              </a:rPr>
              <a:t>Jeg er bekymret, ford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160" y="74160"/>
            <a:ext cx="6402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Indhold</a:t>
            </a:r>
            <a:endParaRPr b="0" lang="en-US" sz="4000" spc="-1" strike="noStrike">
              <a:solidFill>
                <a:srgbClr val="000000"/>
              </a:solidFill>
              <a:latin typeface="Times New Roman"/>
            </a:endParaRPr>
          </a:p>
        </p:txBody>
      </p:sp>
      <p:sp>
        <p:nvSpPr>
          <p:cNvPr id="51" name="PlaceHolder 2"/>
          <p:cNvSpPr>
            <a:spLocks noGrp="1"/>
          </p:cNvSpPr>
          <p:nvPr>
            <p:ph/>
          </p:nvPr>
        </p:nvSpPr>
        <p:spPr>
          <a:xfrm>
            <a:off x="685440" y="1294920"/>
            <a:ext cx="8062920" cy="48006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Strategier til sikkert samarbejde:</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ledel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medlemskab</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Redska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Brief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besk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Opsummer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Afrun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Sikre Sætni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520" y="76320"/>
            <a:ext cx="65548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Øvelse i teamwork</a:t>
            </a:r>
            <a:endParaRPr b="0" lang="en-US" sz="4000" spc="-1" strike="noStrike">
              <a:solidFill>
                <a:srgbClr val="000000"/>
              </a:solidFill>
              <a:latin typeface="Times New Roman"/>
            </a:endParaRPr>
          </a:p>
        </p:txBody>
      </p:sp>
      <p:pic>
        <p:nvPicPr>
          <p:cNvPr id="93" name="" descr=""/>
          <p:cNvPicPr/>
          <p:nvPr/>
        </p:nvPicPr>
        <p:blipFill>
          <a:blip r:embed="rId1"/>
          <a:stretch/>
        </p:blipFill>
        <p:spPr>
          <a:xfrm>
            <a:off x="4788000" y="2708280"/>
            <a:ext cx="3529080" cy="3003480"/>
          </a:xfrm>
          <a:prstGeom prst="rect">
            <a:avLst/>
          </a:prstGeom>
          <a:ln w="0">
            <a:noFill/>
          </a:ln>
        </p:spPr>
      </p:pic>
      <p:pic>
        <p:nvPicPr>
          <p:cNvPr id="94" name="" descr=""/>
          <p:cNvPicPr/>
          <p:nvPr/>
        </p:nvPicPr>
        <p:blipFill>
          <a:blip r:embed="rId2"/>
          <a:stretch/>
        </p:blipFill>
        <p:spPr>
          <a:xfrm>
            <a:off x="755640" y="1488960"/>
            <a:ext cx="3456000" cy="2238480"/>
          </a:xfrm>
          <a:prstGeom prst="rect">
            <a:avLst/>
          </a:prstGeom>
          <a:ln w="0">
            <a:noFill/>
          </a:ln>
        </p:spPr>
      </p:pic>
      <p:pic>
        <p:nvPicPr>
          <p:cNvPr id="95" name="" descr=""/>
          <p:cNvPicPr/>
          <p:nvPr/>
        </p:nvPicPr>
        <p:blipFill>
          <a:blip r:embed="rId3"/>
          <a:stretch/>
        </p:blipFill>
        <p:spPr>
          <a:xfrm>
            <a:off x="1042920" y="3933720"/>
            <a:ext cx="3095640" cy="196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520" y="7416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Afrunding &amp; point-optælling</a:t>
            </a:r>
            <a:endParaRPr b="0" lang="en-US" sz="3600" spc="-1" strike="noStrike">
              <a:solidFill>
                <a:srgbClr val="000000"/>
              </a:solidFill>
              <a:latin typeface="Times New Roman"/>
            </a:endParaRPr>
          </a:p>
        </p:txBody>
      </p:sp>
      <p:sp>
        <p:nvSpPr>
          <p:cNvPr id="97" name=""/>
          <p:cNvSpPr txBox="1"/>
          <p:nvPr/>
        </p:nvSpPr>
        <p:spPr>
          <a:xfrm>
            <a:off x="685800" y="1988640"/>
            <a:ext cx="7772400" cy="324036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ltagererne gennemfører en </a:t>
            </a:r>
            <a:r>
              <a:rPr b="0" i="1" lang="da-DK" sz="3200" spc="-1" strike="noStrike">
                <a:solidFill>
                  <a:srgbClr val="000000"/>
                </a:solidFill>
                <a:latin typeface="Verdana"/>
              </a:rPr>
              <a:t>afrunding </a:t>
            </a:r>
            <a:r>
              <a:rPr b="0" lang="da-DK" sz="3200" spc="-1" strike="noStrike">
                <a:solidFill>
                  <a:srgbClr val="000000"/>
                </a:solidFill>
                <a:latin typeface="Verdana"/>
              </a:rPr>
              <a:t>i gruppern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Ét point pr. redskab i håndbogen og ét point for ’teamleder’ og ’teammedlem’-kompetenc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99" name="PlaceHolder 2"/>
          <p:cNvSpPr>
            <a:spLocks noGrp="1"/>
          </p:cNvSpPr>
          <p:nvPr>
            <p:ph/>
          </p:nvPr>
        </p:nvSpPr>
        <p:spPr>
          <a:xfrm>
            <a:off x="685440" y="1294920"/>
            <a:ext cx="8062920" cy="48006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ea typeface="Times New Roman"/>
              </a:rPr>
              <a:t>Strategi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ledel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medlemskab</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ea typeface="Times New Roman"/>
              </a:rPr>
              <a:t>Redska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Brief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Teambesk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Opsummer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Afrun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Sikre Sætni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97440" y="2781360"/>
            <a:ext cx="503856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trategier</a:t>
            </a:r>
            <a:endParaRPr b="0" lang="en-US" sz="4400" spc="-1" strike="noStrike">
              <a:solidFill>
                <a:srgbClr val="000000"/>
              </a:solidFill>
              <a:latin typeface="Times New Roman"/>
            </a:endParaRPr>
          </a:p>
        </p:txBody>
      </p:sp>
      <p:pic>
        <p:nvPicPr>
          <p:cNvPr id="53" name="" descr=""/>
          <p:cNvPicPr/>
          <p:nvPr/>
        </p:nvPicPr>
        <p:blipFill>
          <a:blip r:embed="rId1"/>
          <a:stretch/>
        </p:blipFill>
        <p:spPr>
          <a:xfrm>
            <a:off x="611280" y="549360"/>
            <a:ext cx="418932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trategi 1 - Teamledelse</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523520"/>
            <a:ext cx="7772400" cy="441972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eamlederens opgav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rganiserer teame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deler arbejdsopgav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trykker må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Bevarer overblikk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ræffer beslutninger efter input fra tea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ager initiativ til briefing, opsummering og afrund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Løser konflik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trategi 1 - Teamledelse</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523520"/>
            <a:ext cx="7772400" cy="441972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ller omvendt: Den d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Organiserer teame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deler arbejdsopgav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dtrykker må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evarer overblik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ræffer beslutninger efter input fra team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ager initiativ til briefing, opsummering og afrun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Løser konflikte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t>
            </a:r>
            <a:r>
              <a:rPr b="0" lang="da-DK" sz="2400" spc="-1" strike="noStrike">
                <a:solidFill>
                  <a:srgbClr val="000000"/>
                </a:solidFill>
                <a:latin typeface="Verdana"/>
              </a:rPr>
              <a:t>Er teamle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358920"/>
            <a:ext cx="693576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ktive teammedlemmer (Strategi 2)</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7524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ltager i beslutningstagning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Giver information og feedbac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øtter andre teammedlemm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	</a:t>
            </a:r>
            <a:r>
              <a:rPr b="0" lang="da-DK" sz="2400" spc="-1" strike="noStrike">
                <a:solidFill>
                  <a:srgbClr val="000000"/>
                </a:solidFill>
                <a:latin typeface="Verdana"/>
              </a:rPr>
              <a:t>(jf. stress og træth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ilbyder assista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står deres roll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iger til og f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5992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Udfordringer ved teamdannelse</a:t>
            </a:r>
            <a:endParaRPr b="0" lang="en-US" sz="3200" spc="-1" strike="noStrike">
              <a:solidFill>
                <a:srgbClr val="000000"/>
              </a:solidFill>
              <a:latin typeface="Times New Roman"/>
            </a:endParaRPr>
          </a:p>
        </p:txBody>
      </p:sp>
      <p:sp>
        <p:nvSpPr>
          <p:cNvPr id="61" name="PlaceHolder 2"/>
          <p:cNvSpPr>
            <a:spLocks noGrp="1"/>
          </p:cNvSpPr>
          <p:nvPr>
            <p:ph/>
          </p:nvPr>
        </p:nvSpPr>
        <p:spPr>
          <a:xfrm>
            <a:off x="685440" y="1557000"/>
            <a:ext cx="7623000" cy="41576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gen teamledel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lere teamlede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r en uklar rollefordel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skiftning i teammedlemm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 stor eller lille respekt for autorite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nflikt mellem personlighe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anglende erfar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kjulte dagsorden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a:hlinkClick r:id="rId1"/>
          </p:cNvPr>
          <p:cNvPicPr/>
          <p:nvPr/>
        </p:nvPicPr>
        <p:blipFill>
          <a:blip r:embed="rId2"/>
          <a:stretch/>
        </p:blipFill>
        <p:spPr>
          <a:xfrm>
            <a:off x="4859280" y="2637000"/>
            <a:ext cx="3267000" cy="2733480"/>
          </a:xfrm>
          <a:prstGeom prst="rect">
            <a:avLst/>
          </a:prstGeom>
          <a:ln w="0">
            <a:noFill/>
          </a:ln>
        </p:spPr>
      </p:pic>
      <p:sp>
        <p:nvSpPr>
          <p:cNvPr id="63" name=""/>
          <p:cNvSpPr/>
          <p:nvPr/>
        </p:nvSpPr>
        <p:spPr>
          <a:xfrm>
            <a:off x="1403280" y="4149720"/>
            <a:ext cx="3270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Redskab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60" y="74160"/>
            <a:ext cx="678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Briefing (1)</a:t>
            </a:r>
            <a:endParaRPr b="0" lang="en-US" sz="4000" spc="-1" strike="noStrike">
              <a:solidFill>
                <a:srgbClr val="000000"/>
              </a:solidFill>
              <a:latin typeface="Times New Roman"/>
            </a:endParaRPr>
          </a:p>
        </p:txBody>
      </p:sp>
      <p:pic>
        <p:nvPicPr>
          <p:cNvPr id="65" name="" descr=""/>
          <p:cNvPicPr/>
          <p:nvPr/>
        </p:nvPicPr>
        <p:blipFill>
          <a:blip r:embed="rId1"/>
          <a:stretch/>
        </p:blipFill>
        <p:spPr>
          <a:xfrm>
            <a:off x="1187280" y="1484280"/>
            <a:ext cx="5729400" cy="433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3T13:26:22Z</cp:lastPrinted>
  <dcterms:modified xsi:type="dcterms:W3CDTF">2007-04-13T15:08:36Z</dcterms:modified>
  <cp:revision>61</cp:revision>
  <dc:subject/>
  <dc:title>TRYG cases</dc:title>
</cp:coreProperties>
</file>