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wmf" ContentType="image/x-wmf"/>
  <Override PartName="/ppt/media/image1.jpeg" ContentType="image/jpeg"/>
  <Override PartName="/ppt/media/image2.jpeg" ContentType="image/jpeg"/>
  <Override PartName="/ppt/media/image4.png" ContentType="image/png"/>
  <Override PartName="/ppt/media/image5.png" ContentType="image/png"/>
  <Override PartName="/ppt/media/image8.jpeg" ContentType="image/jpeg"/>
  <Override PartName="/ppt/media/image6.jpeg" ContentType="image/jpeg"/>
  <Override PartName="/ppt/media/image13.png" ContentType="image/png"/>
  <Override PartName="/ppt/media/image7.jpeg" ContentType="image/jpeg"/>
  <Override PartName="/ppt/media/image10.wmf" ContentType="image/x-wmf"/>
  <Override PartName="/ppt/media/image9.jpeg" ContentType="image/jpeg"/>
  <Override PartName="/ppt/media/image3.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header&gt;</a:t>
            </a:r>
            <a:endParaRPr b="0" lang="en-US" sz="10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lick to edit the notes format</a:t>
            </a:r>
            <a:endParaRPr b="0" lang="en-US" sz="1000" spc="-1" strike="noStrike">
              <a:solidFill>
                <a:srgbClr val="000000"/>
              </a:solidFill>
              <a:latin typeface="Verdana"/>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1C97-383F-4941-9B28-E14935C413D7}" type="slidenum">
              <a:rPr b="0" lang="da-DK"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0920" y="692280"/>
            <a:ext cx="4556160" cy="34160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Referencer til de enkelte redskaber findes i bilag 1 i ’Sikker Mundtlig Kommunikation. Baggrund, begreber og litteratur’. Dette modul ’skæres over’ af frokosten. Det kan være en idé at slutte modulet før ’Redskaber’-slidet, da det så bliver filmen og øvelserne, der indleder eftermiddagen.</a:t>
            </a:r>
            <a:endParaRPr b="0" lang="en-US" sz="10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50920" y="692280"/>
            <a:ext cx="4556160" cy="34160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Brug af navne</a:t>
            </a:r>
            <a:r>
              <a:rPr b="0" lang="da-DK" sz="1000" spc="-1" strike="noStrike">
                <a:solidFill>
                  <a:srgbClr val="000000"/>
                </a:solidFill>
                <a:latin typeface="Verdana"/>
              </a:rPr>
              <a:t> medvirker til at skærpe opmærksomheden og målrette det der bliver sagt, når det skal målrettes mod en enkelt. I en snæver vending kan man bruge titler i stedet (fx ’Læge, vil du’).</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lidet viser to </a:t>
            </a:r>
            <a:r>
              <a:rPr b="1" i="1" lang="da-DK" sz="1000" spc="-1" strike="noStrike">
                <a:solidFill>
                  <a:srgbClr val="000000"/>
                </a:solidFill>
                <a:latin typeface="Verdana"/>
              </a:rPr>
              <a:t>white board</a:t>
            </a:r>
            <a:r>
              <a:rPr b="0" lang="da-DK" sz="1000" spc="-1" strike="noStrike">
                <a:solidFill>
                  <a:srgbClr val="000000"/>
                </a:solidFill>
                <a:latin typeface="Verdana"/>
              </a:rPr>
              <a:t>, der bliver brugt forskelligt. Slidet til højre viser et </a:t>
            </a:r>
            <a:r>
              <a:rPr b="0" i="1" lang="da-DK" sz="1000" spc="-1" strike="noStrike">
                <a:solidFill>
                  <a:srgbClr val="000000"/>
                </a:solidFill>
                <a:latin typeface="Verdana"/>
              </a:rPr>
              <a:t>white board</a:t>
            </a:r>
            <a:r>
              <a:rPr b="0" lang="da-DK" sz="1000" spc="-1" strike="noStrike">
                <a:solidFill>
                  <a:srgbClr val="000000"/>
                </a:solidFill>
                <a:latin typeface="Verdana"/>
              </a:rPr>
              <a:t>, som de anvendes på de fleste stuer: Tilfældig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å slidet til højre ses et </a:t>
            </a:r>
            <a:r>
              <a:rPr b="0" i="1" lang="da-DK" sz="1000" spc="-1" strike="noStrike">
                <a:solidFill>
                  <a:srgbClr val="000000"/>
                </a:solidFill>
                <a:latin typeface="Verdana"/>
              </a:rPr>
              <a:t>white board</a:t>
            </a:r>
            <a:r>
              <a:rPr b="0" lang="da-DK" sz="1000" spc="-1" strike="noStrike">
                <a:solidFill>
                  <a:srgbClr val="000000"/>
                </a:solidFill>
                <a:latin typeface="Verdana"/>
              </a:rPr>
              <a:t>, der ikke blot identificerer patienten og indgrebet, men også de tilstedeværend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Øjenkontakt</a:t>
            </a:r>
            <a:r>
              <a:rPr b="0" lang="da-DK" sz="1000" spc="-1" strike="noStrike">
                <a:solidFill>
                  <a:srgbClr val="000000"/>
                </a:solidFill>
                <a:latin typeface="Verdana"/>
              </a:rPr>
              <a:t> styrker kommunikationen, da man ved, hvem der bliver talt til og øger fornemmelsen af at høre sammen som et team.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50920" y="692280"/>
            <a:ext cx="4556160" cy="34160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fter beskrivelsen af problemerne og fremlæggelsen af strategien for at løse det kommer her redskaberne, der skal skabe struktur</a:t>
            </a:r>
            <a:endParaRPr b="0" lang="en-US" sz="10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50920" y="692280"/>
            <a:ext cx="4556160" cy="34160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SBAR er et redskab til kommunikation om patientbehandling (se håndbogens side 4 og 5). ISBAR er en fordanskning af dem amerikanske ’SBAR’ (</a:t>
            </a:r>
            <a:r>
              <a:rPr b="0" i="1" lang="da-DK" sz="1000" spc="-1" strike="noStrike">
                <a:solidFill>
                  <a:srgbClr val="000000"/>
                </a:solidFill>
                <a:latin typeface="Verdana"/>
              </a:rPr>
              <a:t>situation, background, assesment and recommandation</a:t>
            </a:r>
            <a:r>
              <a:rPr b="0" lang="da-DK" sz="1000" spc="-1" strike="noStrike">
                <a:solidFill>
                  <a:srgbClr val="000000"/>
                </a:solidFill>
                <a:latin typeface="Verdana"/>
              </a:rPr>
              <a:t>), der p.t. indføres på over 400 hospitaler i USA.</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Fordel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fsenderen når at overveje, hvad vedkommende vil sige inden der ringes op.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un det nødvendigste – ikke and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Modtageren opnår forudsigelighe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Modtageren kan lettere prioritere, hvis man har fået en analyse af situationen fra de øjne der ser og et råd om fx at komme nu eller indenfor en time eller bare ringe tilbag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Ulemper:</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 fastlåst – det kan være relevant at tage B før S eller tilpasse S til den enkelte opgave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ikseringsfejl: ’A’ fastlåser modtageren på problemstillingen, der kan være forkert</a:t>
            </a:r>
            <a:endParaRPr b="0" lang="en-US" sz="10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50920" y="692280"/>
            <a:ext cx="4556160" cy="34160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Vis her ISBAR-filmen, der viser, hvordan man kan bruge ISBAR’en til at kommunikere om patientbehandling</a:t>
            </a:r>
            <a:endParaRPr b="0" lang="en-US" sz="10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FDAB-F854-454A-8CC6-8892376DAF8C}" type="slidenum">
              <a:rPr b="0" lang="da-DK"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3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3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header&gt;</a:t>
            </a:r>
            <a:endParaRPr b="0" lang="en-US" sz="1000" spc="-1" strike="noStrike">
              <a:solidFill>
                <a:srgbClr val="000000"/>
              </a:solidFill>
              <a:latin typeface="Times New Roman"/>
            </a:endParaRPr>
          </a:p>
        </p:txBody>
      </p:sp>
      <p:sp>
        <p:nvSpPr>
          <p:cNvPr id="13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gå, hvordan man giver en ISBAR. Det skal understreges, at det skal være en hjælp – ikke en hindring. Fx kan det i nogle tilfælde være relevant med en IBSAR.</a:t>
            </a: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de 6 i håndbog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jek-svar tvinger modtageren til at bevidstgøre sig om det sagte, da han eller hun skal gentage beskeden. Forhindrer derfor særligt rutinebaserede fejl samt fejltagelser (hørte forkert). </a:t>
            </a:r>
            <a:endParaRPr b="0" lang="en-US" sz="10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92280"/>
            <a:ext cx="4556160" cy="341604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ådan kan en mundtlig engangsordination med anvendelse af tjek-svar lyde. Fleregangsordinationer skal altid ordineres først i medicinlisten/medicinmodulet. Akutte engangsordinationer skal ordineres i medicinmodulet efterfølgend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skal understreges, at tjek-svar kan anvendes ved modtagelse af alle typer beskeder, der på nogen måde kan misforstås, fx kritiske blodprøvesvar fra laboratoriet eller ved indtelefonering af recepter til apoteker (obligatorisk flere steder), telefonnumre, cpr.-numre og komplekse besked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is man som afsender forventer et tjek-svar, men ikke får det kan man sige: ’Vil du gentage?’.</a:t>
            </a:r>
            <a:endParaRPr b="0" lang="en-US" sz="10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92280"/>
            <a:ext cx="4556160" cy="341604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åndbogen side 8 og 9:</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ISBAR med SALSA’ er en huskeregel for de detaljer, man kan viderebringe i telefonen til en kollega i forbindelse med overflytning af en patien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nternationalt tales der om </a:t>
            </a:r>
            <a:r>
              <a:rPr b="0" i="1" lang="da-DK" sz="1000" spc="-1" strike="noStrike">
                <a:solidFill>
                  <a:srgbClr val="000000"/>
                </a:solidFill>
                <a:latin typeface="Verdana"/>
              </a:rPr>
              <a:t>hand over</a:t>
            </a:r>
            <a:r>
              <a:rPr b="0" lang="da-DK" sz="1000" spc="-1" strike="noStrike">
                <a:solidFill>
                  <a:srgbClr val="000000"/>
                </a:solidFill>
                <a:latin typeface="Verdana"/>
              </a:rPr>
              <a:t> eller </a:t>
            </a:r>
            <a:r>
              <a:rPr b="0" i="1" lang="da-DK" sz="1000" spc="-1" strike="noStrike">
                <a:solidFill>
                  <a:srgbClr val="000000"/>
                </a:solidFill>
                <a:latin typeface="Verdana"/>
              </a:rPr>
              <a:t>hand off-communication</a:t>
            </a:r>
            <a:r>
              <a:rPr b="0" lang="da-DK" sz="1000" spc="-1" strike="noStrike">
                <a:solidFill>
                  <a:srgbClr val="000000"/>
                </a:solidFill>
                <a:latin typeface="Verdana"/>
              </a:rPr>
              <a:t>. En procedure for </a:t>
            </a:r>
            <a:r>
              <a:rPr b="0" i="1" lang="da-DK" sz="1000" spc="-1" strike="noStrike">
                <a:solidFill>
                  <a:srgbClr val="000000"/>
                </a:solidFill>
                <a:latin typeface="Verdana"/>
              </a:rPr>
              <a:t>hand off communication</a:t>
            </a:r>
            <a:r>
              <a:rPr b="0" lang="da-DK" sz="1000" spc="-1" strike="noStrike">
                <a:solidFill>
                  <a:srgbClr val="000000"/>
                </a:solidFill>
                <a:latin typeface="Verdana"/>
              </a:rPr>
              <a:t> anbefales af bl.a. af:</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Joint Commission</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WHO</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HS</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n Gode Medicinske Afdeli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e referencelisten til håndbogen)</a:t>
            </a:r>
            <a:endParaRPr b="0" lang="en-US" sz="10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Jf. Håndbogen s. 8, er ovenstående et kondensat af de internationale anbefalede (og almindeligt fornuftige) råd om kommunikation ved overflytning af patienter eller overdragelse af patientansvar. </a:t>
            </a:r>
            <a:endParaRPr b="0" lang="en-US" sz="10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92280"/>
            <a:ext cx="4556160" cy="341604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ad evt. deltagerne gå ud i grupper á tre evt. til andre lokaler eller sætte sig lidt væk fra de andre. Kan også afholdes i et større forum, hvor man bliver siddende og øver tre og tre fx i et auditorium.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uddeles kliniske cases (medfølger læringssættet), der kan anvendes, men deltagerne kan også opfordres til at tage fat i noget lavteknologisk á la: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 Hej mor, det er NN.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 Jeg ringer fordi jeg står og laver sovs, og nu er den blevet alt for salt og jeg har ikke mere flød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 Gæsterne kommer om fem minutt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 Maden bliver uspiselig, hvis vi ikke finder på nog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R: Jeg har brug for, at du siger, hvad jeg skal gøre for at få den til at smage god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Angående tjek-svar i øvels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jek-svar kan øves, hvis man fx når frem til en aftale i ’R’. I så fald gentager afsenderen eller modtageren aftalen og den anden bekræft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Afslut øvelsen med at få feedback:</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ad var godt?</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ad var mindre godt?</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ad har de lær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iv dem god tid til at øve redskaberne og afslut med at tale om, hvordan det gik. </a:t>
            </a:r>
            <a:endParaRPr b="0" lang="en-US" sz="10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is der er tid opsummeres modulet</a:t>
            </a:r>
            <a:endParaRPr b="0" lang="en-US" sz="1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0920" y="692280"/>
            <a:ext cx="4556160" cy="34160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te slide viser, hvad der sker, når vi bliver travle, udfordrede fagligt eller stressede. Figuren viser, at fra at kunne fokusere på indholdet af kommunikationen i rolige omgivelser, kan man komme til at fokusere mere på relationer, når man har vanskeligere ved at overskue en opgav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B! Ikke alle mennesker fokuserer mere på relationer end på indhold, når de kommer under pres. Men mange gø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Eksempel</a:t>
            </a:r>
            <a:r>
              <a:rPr b="0" lang="da-DK" sz="1000" spc="-1" strike="noStrike">
                <a:solidFill>
                  <a:srgbClr val="000000"/>
                </a:solidFill>
                <a:latin typeface="Verdana"/>
              </a:rPr>
              <a:t>: Anæstesilægen, der bliver kaldt som bagvagt til en hektisk situation, og for at markere, at nu kommer teamlederen, der nok skal klare ærterne, sparker døren op til stuen med ordene: ”Hvad så, bitches – skal vi aldrig hjem?”. Denne sætning falder i god jord, i rolige situationer, da man her sagtens kan klare, at bagvagten joker eller kommer med let provokerende kommentarer, for at lette stemningen. Den samme kommentar falder ikke i god jord, hvis man er under pres.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lidet lægger op til, at det kan være relevant, at have aftalt, hvordan man kommunikerer i stressede situationer, da det kan styrke opmærksomheden på indholdet.</a:t>
            </a:r>
            <a:endParaRPr b="0" lang="en-US" sz="10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0920" y="692280"/>
            <a:ext cx="4556160" cy="34160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000" spc="-1" strike="noStrike">
                <a:solidFill>
                  <a:srgbClr val="000000"/>
                </a:solidFill>
                <a:latin typeface="Verdana"/>
              </a:rPr>
              <a:t>(Underviserne finder egne eksempler på, hvordan kommunikationen kan være problematisk. Nedenstående eksempler kan anvendes som inspiratio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il daglig fungerer det meste af den kommunikation der foregår på sygehusene uden problemer. Men det er erfaringen fra bl.a. rapporteringer af utilsigtede hændelser, at følgende eksempler forekommer og kan give problemer i patientbehandlingen: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a:t>
            </a:r>
            <a:r>
              <a:rPr b="1" i="1" lang="da-DK" sz="1000" spc="-1" strike="noStrike">
                <a:solidFill>
                  <a:srgbClr val="000000"/>
                </a:solidFill>
                <a:latin typeface="Verdana"/>
              </a:rPr>
              <a:t>Hint and hope’</a:t>
            </a:r>
            <a:r>
              <a:rPr b="1" lang="da-DK" sz="1000" spc="-1" strike="noStrike">
                <a:solidFill>
                  <a:srgbClr val="000000"/>
                </a:solidFill>
                <a:latin typeface="Verdana"/>
              </a:rPr>
              <a:t>:</a:t>
            </a:r>
            <a:r>
              <a:rPr b="0" lang="da-DK" sz="1000" spc="-1" strike="noStrike">
                <a:solidFill>
                  <a:srgbClr val="000000"/>
                </a:solidFill>
                <a:latin typeface="Verdana"/>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ra de sorte bokse, der optager kommunikation i cockpit i cockpittet under flyvningen, kender man alvorlige eksempler på, at medlemmer af besætningen har haft en fornemmelse af, at noget var ved at gå galt forud for flyulykker. Men høfligheder og en kultur, hvor det ikke er legalt at sige fra, forhindrede dem i at kommunikere denne viden til en overordnet. Det var fx det, der gjorde sig gældende i forbindelse med flykatastrofen på Tenerife i 1977: Co-piloten havde på fornemmelsen, at et andet fly var på vej ud på den samme landingsbane, men holdt ikke fast på overfor den meget autoritære kaptajn. Resultatet var, at maskinen taxiede ud på landingbanen, og 580 mennesker omkom, da to Boeing-maskiner stødte sammen under take off (en mere uddybende beskrivelse kan læses på fx Wikipedia (www.wikipedia.com) eller på www.planecrashinfo.com, hvor en komplet udskrift af kommunikationen kan læses).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ksempler fra rapporteringer af utilsigtede hændels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ygepl. til patient under operation: ’Hvordan har du det, gør det ondt? </a:t>
            </a:r>
            <a:r>
              <a:rPr b="0" lang="da-DK" sz="1000" spc="-1" strike="noStrike">
                <a:solidFill>
                  <a:srgbClr val="000000"/>
                </a:solidFill>
                <a:latin typeface="Wingdings"/>
                <a:ea typeface="Wingdings"/>
              </a:rPr>
              <a:t></a:t>
            </a:r>
            <a:r>
              <a:rPr b="0" lang="da-DK" sz="1000" spc="-1" strike="noStrike">
                <a:solidFill>
                  <a:srgbClr val="000000"/>
                </a:solidFill>
                <a:latin typeface="Verdana"/>
              </a:rPr>
              <a:t> Mente ’Operatør NN, patienten er bleg, jamrende og klamsvedende. Jeg er bekymret. Skal vi ikke stoppe inddgrebet til vi har undersøgt, hvorfor?’ Operatøren forstår ikke hentydningen – fordi han er optaget af indgrebet – med det resultat, at patienten ligger længere end nødvendigt med stærke smert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vagt til bagvagt, der er på vej hjem på tilkald: ’Jeg er ikke helt tryg ved NN’ </a:t>
            </a:r>
            <a:r>
              <a:rPr b="0" lang="da-DK" sz="1000" spc="-1" strike="noStrike">
                <a:solidFill>
                  <a:srgbClr val="000000"/>
                </a:solidFill>
                <a:latin typeface="Wingdings"/>
                <a:ea typeface="Wingdings"/>
              </a:rPr>
              <a:t></a:t>
            </a:r>
            <a:r>
              <a:rPr b="0" lang="da-DK" sz="1000" spc="-1" strike="noStrike">
                <a:solidFill>
                  <a:srgbClr val="000000"/>
                </a:solidFill>
                <a:latin typeface="Verdana"/>
              </a:rPr>
              <a:t> Mener: ’Jeg er bange for, at NN bliver dårlig. Hvad gør jeg så?’ Bagvagten forstod ikke forvagtens hentydning – og forvagten tolkede bagvagtens manglende reaktion, som om, at bagvagten havde styr på patienten og, at forvagten ikke skulle være urolig. Kort efter at bagvagten var kørt hjem fik patienten hjertestop og forvagten stod som uerfaren teamleder af et hjertestophold indtil bagvagten kom ind igen. Patienten overlevede ikk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Forkortelser:</a:t>
            </a:r>
            <a:r>
              <a:rPr b="0" lang="da-DK" sz="1000" spc="-1" strike="noStrike">
                <a:solidFill>
                  <a:srgbClr val="000000"/>
                </a:solidFill>
                <a:latin typeface="Verdana"/>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findes uendeligt mange – her kommer et par stykk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CPAP (continuerlig positive airway pressure) ,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AH (subarachnoidal haemorag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CS (Glasgow Coma Scor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CTG (cardio tocogram),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OP (local operating procedur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OP (standard operating procedur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n. (</a:t>
            </a:r>
            <a:r>
              <a:rPr b="0" lang="da-DK" sz="1000" spc="-1" strike="noStrike">
                <a:solidFill>
                  <a:srgbClr val="000000"/>
                </a:solidFill>
                <a:latin typeface="Verdana"/>
              </a:rPr>
              <a:t>efter behov),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o. (per oral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m. (intra muskulær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UR-B, TUR-P (Trans Urethral Resektion af prostata/blæren) etc., etc., etc.</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lang:</a:t>
            </a:r>
            <a:r>
              <a:rPr b="0" lang="da-DK" sz="1000" spc="-1" strike="noStrike">
                <a:solidFill>
                  <a:srgbClr val="000000"/>
                </a:solidFill>
                <a:latin typeface="Verdana"/>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olly Parton (to store poser til luft på en fugter til iltbehandling),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alerstol (høj gangramm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ollywood-kateter (næsekateter til il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rian-fraktur (fraktur efter slåskamp af højre 4. Metacarp)</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Nedsættende</a:t>
            </a:r>
            <a:r>
              <a:rPr b="0" lang="da-DK" sz="1000" spc="-1" strike="noStrike">
                <a:solidFill>
                  <a:srgbClr val="000000"/>
                </a:solidFill>
                <a:latin typeface="Verdana"/>
              </a:rPr>
              <a: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Det gamle rådne lort’ om fx maskiner, der ikke virk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Bundsvin’ om forvagt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Knoglesnedkere’ og ortopædkirurg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Klinisk komiker’ om en klinisk kemik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De små gymnaster’ om fysioterapeut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ltagerne kan måske andre eksempler, der ikke egner sig til offentliggørel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 luftfarten er det, i cockpittet og når man er i uniform, ikke tilladt at bruge nedsættende udtryk eller at tale om ting, der kan ophidse én fx lønforhandlinger eller skilsmissen, da ophidselse kan ændre ens måde at betjene apparaturet på fx kan man i affekt reagere ved at slå i instrumenterne eller fornærme kolleger, hvilket kan være kompromitterende for sikkerhed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arkasme:</a:t>
            </a:r>
            <a:r>
              <a:rPr b="0" lang="da-DK" sz="1000" spc="-1" strike="noStrike">
                <a:solidFill>
                  <a:srgbClr val="000000"/>
                </a:solidFill>
                <a:latin typeface="Verdana"/>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ødestue med en utålmodig jordemoder til den unge forvagt, der tøver med at trække på cuppen: ’Nå, skal vi nu ikke snart holde fødselsdag’. Mente: Jeg er bekymret for barnets tilstand. Hvorfor tøver du med at forløse moderen?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perationspersonale til langsom kirurg: ’Nu skal du passe på, at granulationsvævet ikke overhaler dig’. Mener: ’Det går langsomt det her og vi skal videre i dagens program. Hvornår skønner du, at du er færdi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Faggruppers forskellighed:</a:t>
            </a:r>
            <a:r>
              <a:rPr b="0" lang="da-DK" sz="1000" spc="-1" strike="noStrike">
                <a:solidFill>
                  <a:srgbClr val="000000"/>
                </a:solidFill>
                <a:latin typeface="Verdana"/>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Med fare for at generalisere groft kommer her et par eksempler på faggruppers forskelligheder, der kan give kommunikationsproblem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ygeplejersker er uddannet til beskrive og læger er uddannet til at stille diagnoser. Dette kan forhindre sygeplejersker i at foreslå diagnoser de har set (og som lægen måske ikke har set), fordi de formoder, at lægen også kan se de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Jordemødre er uddannet til at forløse raske kvinder. Læger kan betragte de fødende som patient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irurger er uddannet til at ’fjerne problemerne operativt’ – medicinere er uddannet til at skabe sig et overblik og behandle mere komplekse tilstand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lmen medicinere behandler patienten ud fra viden om patienten, familieforhold og ressourcer. Hospitalslæger er specialister, der behandler den konkrete lidelse uden at fokusere på sociale aspekt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Udsagnet: ’Patienten er dårlig’ kan for ovenstående forskellige faggrupper og specialer have helt forskellig betydning</a:t>
            </a: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0920" y="692280"/>
            <a:ext cx="4556160" cy="34160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u beskrives strategier til et godt teamsamarbejde. For at nå dertil må vi starte med at beskrive, hvordan det enkelte teammedlem arbejder sig hen mod et teamsamarbejde i det der kaldes ’situationsbevidsthed’.</a:t>
            </a:r>
            <a:endParaRPr b="0" lang="en-US" sz="10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0920" y="692280"/>
            <a:ext cx="4556160" cy="34160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n første strategi går ud på, at man skal strukturere kommunikationen om patientern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målet er:</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tvinge </a:t>
            </a:r>
            <a:r>
              <a:rPr b="1" lang="da-DK" sz="1000" spc="-1" strike="noStrike">
                <a:solidFill>
                  <a:srgbClr val="000000"/>
                </a:solidFill>
                <a:latin typeface="Verdana"/>
              </a:rPr>
              <a:t>afsenderen</a:t>
            </a:r>
            <a:r>
              <a:rPr b="0" lang="da-DK" sz="1000" spc="-1" strike="noStrike">
                <a:solidFill>
                  <a:srgbClr val="000000"/>
                </a:solidFill>
                <a:latin typeface="Verdana"/>
              </a:rPr>
              <a:t> til at tænke sig om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un inddrage det nødvendige inden man beder om hjælp og</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give afsenderen en støtte til at fokusere på det rigtige.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Modtageren</a:t>
            </a:r>
            <a:r>
              <a:rPr b="0" lang="da-DK" sz="1000" spc="-1" strike="noStrike">
                <a:solidFill>
                  <a:srgbClr val="000000"/>
                </a:solidFill>
                <a:latin typeface="Verdana"/>
              </a:rPr>
              <a:t> har fordel af struktur, fordi man ved, i hvilken rækkefølge man kan forvente de komplekse besked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er særligt vigtigt, hvis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man er uerfaren,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travlet eller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tår med meget komplekse informationer, der skal struktureres for modtageren.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trukturen kan med fordel anvendes både i akutte og ikke-akutte situationer, da strukturen er lettere at anvende akut, hvis den er kendt fra hverdagssituation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Erfaringerne stammer fra</a:t>
            </a:r>
            <a:r>
              <a:rPr b="0" lang="da-DK" sz="1000" spc="-1" strike="noStrike">
                <a:solidFill>
                  <a:srgbClr val="000000"/>
                </a:solidFill>
                <a:latin typeface="Verdana"/>
              </a:rPr>
              <a:t>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uftfarten (brug af tjeksvar, sikre sætninger og tjeklister for kommunikation (Vi kender alle den strukturerede remse fra kabinepersonalet umiddelbart før take off på en flyvning: ’Cabin crew, close doors-arm slides-cross check and safety annoncement’, ’cabin checked’ og ’cabin clear’ (det sidste til cockpittet) og så er der take off)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g atomubåde (SBAR).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suden viser gennemgang af et større antal alvorlige utilsigtede hændelser at struktur kunne være en løsning i forbindelse med kommunikation i sundhedsvæsn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undhedsvæsnet indfører struktur flere sted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jek-svar (anbefales af bl.a. Joint Commission til medicinordination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SBAR’ indføres p.t. På 400 amerikanske hospital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riefing som struktureret indledning til operation (www.de5trin.dk) anbefales af sundhedsstyrelsen (www.sst.dk)</a:t>
            </a:r>
            <a:endParaRPr b="0" lang="en-US" sz="10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50920" y="692280"/>
            <a:ext cx="4556160" cy="34160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upervision</a:t>
            </a:r>
            <a:r>
              <a:rPr b="0" lang="da-DK" sz="1000" spc="-1" strike="noStrike">
                <a:solidFill>
                  <a:srgbClr val="000000"/>
                </a:solidFill>
                <a:latin typeface="Verdana"/>
              </a:rPr>
              <a:t>: Fx ringe efter hjælp hos erfaren kollega</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Konferencer og sygeplejerapport</a:t>
            </a:r>
            <a:r>
              <a:rPr b="0" lang="da-DK" sz="1000" spc="-1" strike="noStrike">
                <a:solidFill>
                  <a:srgbClr val="000000"/>
                </a:solidFill>
                <a:latin typeface="Verdana"/>
              </a:rPr>
              <a:t>: Struktureret fremlæggelse af patientca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Vagtskifte</a:t>
            </a:r>
            <a:r>
              <a:rPr b="0" lang="da-DK" sz="1000" spc="-1" strike="noStrike">
                <a:solidFill>
                  <a:srgbClr val="000000"/>
                </a:solidFill>
                <a:latin typeface="Verdana"/>
              </a:rPr>
              <a:t>: Struktureret fremlæggelse af patientca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Overflytning</a:t>
            </a:r>
            <a:r>
              <a:rPr b="0" lang="da-DK" sz="1000" spc="-1" strike="noStrike">
                <a:solidFill>
                  <a:srgbClr val="000000"/>
                </a:solidFill>
                <a:latin typeface="Verdana"/>
              </a:rPr>
              <a:t>: Struktureret overdragelse af vigtige detalj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Indlæggelse</a:t>
            </a:r>
            <a:r>
              <a:rPr b="0" lang="da-DK" sz="1000" spc="-1" strike="noStrike">
                <a:solidFill>
                  <a:srgbClr val="000000"/>
                </a:solidFill>
                <a:latin typeface="Verdana"/>
              </a:rPr>
              <a:t>: Den praktiserende læge kan afgive patientndata strukturer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Mundtlige ordinationer</a:t>
            </a:r>
            <a:r>
              <a:rPr b="0" lang="da-DK" sz="1000" spc="-1" strike="noStrike">
                <a:solidFill>
                  <a:srgbClr val="000000"/>
                </a:solidFill>
                <a:latin typeface="Verdana"/>
              </a:rPr>
              <a:t>: Anvendelse af tjek-svar for korrekt opfattet ordinatio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Teamsamarbejde</a:t>
            </a:r>
            <a:r>
              <a:rPr b="0" lang="da-DK" sz="1000" spc="-1" strike="noStrike">
                <a:solidFill>
                  <a:srgbClr val="000000"/>
                </a:solidFill>
                <a:latin typeface="Verdana"/>
              </a:rPr>
              <a:t>: Bestemt kommunikationsstrukturer omkring teamdannelse, opgaveløsning og afslutning af opgaven</a:t>
            </a:r>
            <a:endParaRPr b="0" lang="en-US" sz="10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50920" y="692280"/>
            <a:ext cx="4556160" cy="34160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nbefalinger i forlængelse af slide 7.</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te slide leder også tilbage til modulet om den menneskelige faktor: Assertion, dvs. at udtrykke sig klart og ’sige til og fra’.</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vendes tilbage til de Sikre Sætninger i næste modul.</a:t>
            </a:r>
            <a:endParaRPr b="0" lang="en-US" sz="10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391520" y="380880"/>
            <a:ext cx="1554120" cy="301680"/>
          </a:xfrm>
          <a:prstGeom prst="rect">
            <a:avLst/>
          </a:prstGeom>
          <a:ln w="0">
            <a:noFill/>
          </a:ln>
        </p:spPr>
      </p:pic>
      <p:sp>
        <p:nvSpPr>
          <p:cNvPr id="1" name=""/>
          <p:cNvSpPr/>
          <p:nvPr/>
        </p:nvSpPr>
        <p:spPr>
          <a:xfrm>
            <a:off x="0" y="6095880"/>
            <a:ext cx="9140760" cy="0"/>
          </a:xfrm>
          <a:prstGeom prst="line">
            <a:avLst/>
          </a:prstGeom>
          <a:ln w="12600">
            <a:solidFill>
              <a:srgbClr val="a5b6d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3"/>
          <a:stretch/>
        </p:blipFill>
        <p:spPr>
          <a:xfrm>
            <a:off x="0" y="0"/>
            <a:ext cx="7259760" cy="1050840"/>
          </a:xfrm>
          <a:prstGeom prst="rect">
            <a:avLst/>
          </a:prstGeom>
          <a:ln w="0">
            <a:noFill/>
          </a:ln>
        </p:spPr>
      </p:pic>
      <p:pic>
        <p:nvPicPr>
          <p:cNvPr id="3" name="" descr=""/>
          <p:cNvPicPr/>
          <p:nvPr/>
        </p:nvPicPr>
        <p:blipFill>
          <a:blip r:embed="rId4"/>
          <a:stretch/>
        </p:blipFill>
        <p:spPr>
          <a:xfrm>
            <a:off x="7524720" y="6165720"/>
            <a:ext cx="1440000" cy="60480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dk/imgres?imgurl=http://www.qsradio.com/Regular%2520Crimp%2520Tool.jpg&amp;imgrefurl=http://www.qsradio.com/PowerPals.htm&amp;h=240&amp;w=406&amp;sz=14&amp;hl=da&amp;start=46&amp;tbnid=5PxUJMflHbFpjM:&amp;tbnh=73&amp;tbnw=124&amp;prev=/images%3Fq%3Dtool%26start%3D40%26ndsp%3D20%26svnum%3D10%26hl%3Dda%26lr%3D%26sa%3DN"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1676520"/>
            <a:ext cx="7924680" cy="36576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4800"/>
            </a:br>
            <a:r>
              <a:rPr b="1" lang="da-DK" sz="3600" spc="-1" strike="noStrike">
                <a:solidFill>
                  <a:srgbClr val="000000"/>
                </a:solidFill>
                <a:latin typeface="Verdana"/>
              </a:rPr>
              <a:t>Modul 3</a:t>
            </a:r>
            <a:br>
              <a:rPr sz="3600"/>
            </a:br>
            <a:br>
              <a:rPr sz="3600"/>
            </a:br>
            <a:r>
              <a:rPr b="1" lang="da-DK" sz="4400" spc="-1" strike="noStrike">
                <a:solidFill>
                  <a:srgbClr val="000000"/>
                </a:solidFill>
                <a:latin typeface="Verdana"/>
              </a:rPr>
              <a:t>Kommunikation</a:t>
            </a:r>
            <a:br>
              <a:rPr sz="4400"/>
            </a:br>
            <a:r>
              <a:rPr b="1" lang="da-DK" sz="3600" spc="-1" strike="noStrike">
                <a:solidFill>
                  <a:srgbClr val="000000"/>
                </a:solidFill>
                <a:latin typeface="Times New Roman"/>
                <a:ea typeface="Times New Roman"/>
              </a:rPr>
              <a:t>	</a:t>
            </a:r>
            <a:r>
              <a:rPr b="1" lang="da-DK"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Direkte kommunikation (strategi 3)</a:t>
            </a:r>
            <a:endParaRPr b="0" lang="en-US" sz="2800" spc="-1" strike="noStrike">
              <a:solidFill>
                <a:srgbClr val="000000"/>
              </a:solidFill>
              <a:latin typeface="Times New Roman"/>
            </a:endParaRPr>
          </a:p>
        </p:txBody>
      </p:sp>
      <p:sp>
        <p:nvSpPr>
          <p:cNvPr id="79" name="PlaceHolder 2"/>
          <p:cNvSpPr>
            <a:spLocks noGrp="1"/>
          </p:cNvSpPr>
          <p:nvPr>
            <p:ph/>
          </p:nvPr>
        </p:nvSpPr>
        <p:spPr>
          <a:xfrm>
            <a:off x="456840" y="1413000"/>
            <a:ext cx="569916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Brug navn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kab overblik (</a:t>
            </a:r>
            <a:r>
              <a:rPr b="0" i="1" lang="da-DK" sz="2400" spc="-1" strike="noStrike">
                <a:solidFill>
                  <a:srgbClr val="000000"/>
                </a:solidFill>
                <a:latin typeface="Verdana"/>
              </a:rPr>
              <a:t>white board</a:t>
            </a:r>
            <a:r>
              <a:rPr b="0" lang="da-DK" sz="2400" spc="-1" strike="noStrike">
                <a:solidFill>
                  <a:srgbClr val="000000"/>
                </a:solidFill>
                <a:latin typeface="Verdana"/>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kab øjenkontakt</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396720" y="3397320"/>
            <a:ext cx="3743640" cy="3056040"/>
          </a:xfrm>
          <a:prstGeom prst="rect">
            <a:avLst/>
          </a:prstGeom>
          <a:ln w="0">
            <a:noFill/>
          </a:ln>
        </p:spPr>
      </p:pic>
      <p:pic>
        <p:nvPicPr>
          <p:cNvPr id="81" name="" descr=""/>
          <p:cNvPicPr/>
          <p:nvPr/>
        </p:nvPicPr>
        <p:blipFill>
          <a:blip r:embed="rId2"/>
          <a:stretch/>
        </p:blipFill>
        <p:spPr>
          <a:xfrm>
            <a:off x="4446720" y="2637000"/>
            <a:ext cx="4446360" cy="3887640"/>
          </a:xfrm>
          <a:prstGeom prst="rect">
            <a:avLst/>
          </a:prstGeom>
          <a:ln w="0">
            <a:noFill/>
          </a:ln>
        </p:spPr>
      </p:pic>
      <p:sp>
        <p:nvSpPr>
          <p:cNvPr id="82" name=""/>
          <p:cNvSpPr/>
          <p:nvPr/>
        </p:nvSpPr>
        <p:spPr>
          <a:xfrm>
            <a:off x="3738600" y="4238640"/>
            <a:ext cx="1120680" cy="485640"/>
          </a:xfrm>
          <a:prstGeom prst="rightArrow">
            <a:avLst>
              <a:gd name="adj1" fmla="val 50000"/>
              <a:gd name="adj2" fmla="val 57691"/>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a:hlinkClick r:id="rId1"/>
          </p:cNvPr>
          <p:cNvPicPr/>
          <p:nvPr/>
        </p:nvPicPr>
        <p:blipFill>
          <a:blip r:embed="rId2"/>
          <a:stretch/>
        </p:blipFill>
        <p:spPr>
          <a:xfrm>
            <a:off x="1752480" y="1600200"/>
            <a:ext cx="4724640" cy="3699000"/>
          </a:xfrm>
          <a:prstGeom prst="rect">
            <a:avLst/>
          </a:prstGeom>
          <a:ln w="0">
            <a:noFill/>
          </a:ln>
        </p:spPr>
      </p:pic>
      <p:sp>
        <p:nvSpPr>
          <p:cNvPr id="84" name=""/>
          <p:cNvSpPr/>
          <p:nvPr/>
        </p:nvSpPr>
        <p:spPr>
          <a:xfrm>
            <a:off x="3048120" y="4343400"/>
            <a:ext cx="306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ffffff"/>
                </a:solidFill>
                <a:latin typeface="Verdana"/>
              </a:rPr>
              <a:t>Redskab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796000" y="3141720"/>
            <a:ext cx="2554200" cy="2554200"/>
          </a:xfrm>
          <a:prstGeom prst="rect">
            <a:avLst/>
          </a:prstGeom>
          <a:ln w="0">
            <a:noFill/>
          </a:ln>
        </p:spPr>
      </p:pic>
      <p:pic>
        <p:nvPicPr>
          <p:cNvPr id="86" name="" descr=""/>
          <p:cNvPicPr/>
          <p:nvPr/>
        </p:nvPicPr>
        <p:blipFill>
          <a:blip r:embed="rId2"/>
          <a:stretch/>
        </p:blipFill>
        <p:spPr>
          <a:xfrm>
            <a:off x="971640" y="1484280"/>
            <a:ext cx="3579840" cy="5040360"/>
          </a:xfrm>
          <a:prstGeom prst="rect">
            <a:avLst/>
          </a:prstGeom>
          <a:ln w="0">
            <a:noFill/>
          </a:ln>
        </p:spPr>
      </p:pic>
      <p:sp>
        <p:nvSpPr>
          <p:cNvPr id="87" name=""/>
          <p:cNvSpPr/>
          <p:nvPr/>
        </p:nvSpPr>
        <p:spPr>
          <a:xfrm>
            <a:off x="179280" y="189000"/>
            <a:ext cx="705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Kommunikation om patient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723960" y="1599840"/>
            <a:ext cx="7696080" cy="1981080"/>
          </a:xfrm>
          <a:prstGeom prst="rect">
            <a:avLst/>
          </a:prstGeom>
          <a:solidFill>
            <a:srgbClr val="ffffff"/>
          </a:solidFill>
          <a:ln w="0">
            <a:noFill/>
          </a:ln>
        </p:spPr>
        <p:txBody>
          <a:bodyPr lIns="90000" rIns="90000" tIns="46800" bIns="46800" anchor="t">
            <a:normAutofit fontScale="88000"/>
          </a:bodyPr>
          <a:p>
            <a:pPr marL="3016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Verdana"/>
              </a:rPr>
              <a:t>Dvd – 9 minutt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520" y="74160"/>
            <a:ext cx="77724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ådan giver man en ISBAR:</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dentifikation: </a:t>
            </a:r>
            <a:r>
              <a:rPr b="0" lang="en-US" sz="2800" spc="-1" strike="noStrike">
                <a:solidFill>
                  <a:srgbClr val="000000"/>
                </a:solidFill>
                <a:latin typeface="Verdana"/>
              </a:rPr>
              <a:t>Dit og patientens navn, afdelingsnummer og patientens ald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tuation:</a:t>
            </a:r>
            <a:r>
              <a:rPr b="0" lang="en-US" sz="2800" spc="-1" strike="noStrike">
                <a:solidFill>
                  <a:srgbClr val="000000"/>
                </a:solidFill>
                <a:latin typeface="Verdana"/>
              </a:rPr>
              <a:t> Kun overskrifter. Vitalparametre. 5-10 sek. i al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aggrund: </a:t>
            </a:r>
            <a:r>
              <a:rPr b="0" lang="en-US" sz="2800" spc="-1" strike="noStrike">
                <a:solidFill>
                  <a:srgbClr val="000000"/>
                </a:solidFill>
                <a:latin typeface="Verdana"/>
              </a:rPr>
              <a:t>Sammenhængen, objektive data. Indlæggelsesdiagnose og –da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alyse: </a:t>
            </a:r>
            <a:r>
              <a:rPr b="0" lang="en-US" sz="2800" spc="-1" strike="noStrike">
                <a:solidFill>
                  <a:srgbClr val="000000"/>
                </a:solidFill>
                <a:latin typeface="Verdana"/>
              </a:rPr>
              <a:t>Hvad tror du problemet 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åd:</a:t>
            </a:r>
            <a:r>
              <a:rPr b="0" lang="en-US" sz="2800" spc="-1" strike="noStrike">
                <a:solidFill>
                  <a:srgbClr val="000000"/>
                </a:solidFill>
                <a:latin typeface="Verdana"/>
              </a:rPr>
              <a:t> Hvad har du behov for? Hvornår?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160" y="74160"/>
            <a:ext cx="68598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Tjek-svar (c</a:t>
            </a:r>
            <a:r>
              <a:rPr b="0" i="1" lang="da-DK" sz="4000" spc="-1" strike="noStrike">
                <a:solidFill>
                  <a:srgbClr val="000000"/>
                </a:solidFill>
                <a:latin typeface="Verdana"/>
              </a:rPr>
              <a:t>losed loop)</a:t>
            </a:r>
            <a:endParaRPr b="0" lang="en-US" sz="4000" spc="-1" strike="noStrike">
              <a:solidFill>
                <a:srgbClr val="000000"/>
              </a:solidFill>
              <a:latin typeface="Times New Roman"/>
            </a:endParaRPr>
          </a:p>
        </p:txBody>
      </p:sp>
      <p:sp>
        <p:nvSpPr>
          <p:cNvPr id="92" name="PlaceHolder 2"/>
          <p:cNvSpPr>
            <a:spLocks noGrp="1"/>
          </p:cNvSpPr>
          <p:nvPr>
            <p:ph/>
          </p:nvPr>
        </p:nvSpPr>
        <p:spPr>
          <a:xfrm>
            <a:off x="685440" y="1341360"/>
            <a:ext cx="7270920" cy="460872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Verdana"/>
              </a:rPr>
              <a:t>Anvendes ved</a:t>
            </a:r>
            <a:r>
              <a:rPr b="0" lang="da-DK" sz="2400" spc="-1" strike="noStrike">
                <a:solidFill>
                  <a:srgbClr val="000000"/>
                </a:solidFill>
                <a:latin typeface="Verdana"/>
              </a:rPr>
              <a: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medicinordination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al og num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detalj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Konkrete aftaler</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Verdana"/>
              </a:rPr>
              <a:t>Meto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fsender: Giver besk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Modtager: Gentager og </a:t>
            </a:r>
            <a:r>
              <a:rPr b="1" lang="da-DK" sz="2400" spc="-1" strike="noStrike">
                <a:solidFill>
                  <a:srgbClr val="000000"/>
                </a:solidFill>
                <a:latin typeface="Verdana"/>
              </a:rPr>
              <a:t>skriver ned og læser o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fsender: Accepterer</a:t>
            </a:r>
            <a:endParaRPr b="0" lang="en-US" sz="2400" spc="-1" strike="noStrike">
              <a:solidFill>
                <a:srgbClr val="000000"/>
              </a:solidFill>
              <a:latin typeface="Times New Roman"/>
            </a:endParaRPr>
          </a:p>
        </p:txBody>
      </p:sp>
      <p:pic>
        <p:nvPicPr>
          <p:cNvPr id="93" name="" descr=""/>
          <p:cNvPicPr/>
          <p:nvPr/>
        </p:nvPicPr>
        <p:blipFill>
          <a:blip r:embed="rId1"/>
          <a:stretch/>
        </p:blipFill>
        <p:spPr>
          <a:xfrm>
            <a:off x="4643280" y="2276640"/>
            <a:ext cx="3886200" cy="1752480"/>
          </a:xfrm>
          <a:prstGeom prst="rect">
            <a:avLst/>
          </a:prstGeom>
          <a:ln w="12600">
            <a:solidFill>
              <a:srgbClr val="6633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13840"/>
            <a:ext cx="68594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At give et tjek-svar</a:t>
            </a:r>
            <a:endParaRPr b="0" lang="en-US" sz="4000" spc="-1" strike="noStrike">
              <a:solidFill>
                <a:srgbClr val="000000"/>
              </a:solidFill>
              <a:latin typeface="Times New Roman"/>
            </a:endParaRPr>
          </a:p>
        </p:txBody>
      </p:sp>
      <p:sp>
        <p:nvSpPr>
          <p:cNvPr id="95" name="PlaceHolder 2"/>
          <p:cNvSpPr>
            <a:spLocks noGrp="1"/>
          </p:cNvSpPr>
          <p:nvPr>
            <p:ph/>
          </p:nvPr>
        </p:nvSpPr>
        <p:spPr>
          <a:xfrm>
            <a:off x="685800" y="1412640"/>
            <a:ext cx="7772400" cy="4103640"/>
          </a:xfrm>
          <a:prstGeom prst="rect">
            <a:avLst/>
          </a:prstGeom>
          <a:solidFill>
            <a:srgbClr val="ffff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Verdana"/>
              </a:rPr>
              <a:t>Afsender</a:t>
            </a:r>
            <a:r>
              <a:rPr b="0" lang="da-DK" sz="2400" spc="-1" strike="noStrike">
                <a:solidFill>
                  <a:srgbClr val="000000"/>
                </a:solidFill>
                <a:latin typeface="Verdana"/>
              </a:rPr>
              <a:t>: ’Det er bioanalytiker Birgitte Hansen med et hastesvar på en blodprøve på Anna Nielsen, 110224 – 2566: Se-Kalium er 6,2 mmo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Verdana"/>
              </a:rPr>
              <a:t>Modtager</a:t>
            </a:r>
            <a:r>
              <a:rPr b="0" lang="da-DK" sz="2400" spc="-1" strike="noStrike">
                <a:solidFill>
                  <a:srgbClr val="000000"/>
                </a:solidFill>
                <a:latin typeface="Verdana"/>
              </a:rPr>
              <a:t>: ’Se-Kalium på Anna Nielsen 110224 – 2566 er 6,2 mmo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Verdana"/>
              </a:rPr>
              <a:t>Afsender</a:t>
            </a:r>
            <a:r>
              <a:rPr b="0" lang="da-DK" sz="2400" spc="-1" strike="noStrike">
                <a:solidFill>
                  <a:srgbClr val="000000"/>
                </a:solidFill>
                <a:latin typeface="Verdana"/>
              </a:rPr>
              <a:t>: ’Ta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520" y="74160"/>
            <a:ext cx="60976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verflytning af patient</a:t>
            </a:r>
            <a:endParaRPr b="0" lang="en-US" sz="4000" spc="-1" strike="noStrike">
              <a:solidFill>
                <a:srgbClr val="000000"/>
              </a:solidFill>
              <a:latin typeface="Times New Roman"/>
            </a:endParaRPr>
          </a:p>
        </p:txBody>
      </p:sp>
      <p:pic>
        <p:nvPicPr>
          <p:cNvPr id="97" name="" descr=""/>
          <p:cNvPicPr/>
          <p:nvPr/>
        </p:nvPicPr>
        <p:blipFill>
          <a:blip r:embed="rId1"/>
          <a:stretch/>
        </p:blipFill>
        <p:spPr>
          <a:xfrm>
            <a:off x="4788000" y="1341360"/>
            <a:ext cx="3809880" cy="2857680"/>
          </a:xfrm>
          <a:prstGeom prst="rect">
            <a:avLst/>
          </a:prstGeom>
          <a:ln w="0">
            <a:noFill/>
          </a:ln>
        </p:spPr>
      </p:pic>
      <p:pic>
        <p:nvPicPr>
          <p:cNvPr id="98" name="" descr=""/>
          <p:cNvPicPr/>
          <p:nvPr/>
        </p:nvPicPr>
        <p:blipFill>
          <a:blip r:embed="rId2"/>
          <a:stretch/>
        </p:blipFill>
        <p:spPr>
          <a:xfrm>
            <a:off x="4284720" y="4076640"/>
            <a:ext cx="2289240" cy="2303640"/>
          </a:xfrm>
          <a:prstGeom prst="rect">
            <a:avLst/>
          </a:prstGeom>
          <a:ln w="0">
            <a:noFill/>
          </a:ln>
        </p:spPr>
      </p:pic>
      <p:sp>
        <p:nvSpPr>
          <p:cNvPr id="99" name=""/>
          <p:cNvSpPr/>
          <p:nvPr/>
        </p:nvSpPr>
        <p:spPr>
          <a:xfrm>
            <a:off x="6877080" y="4622760"/>
            <a:ext cx="187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ISBAR med SALSA!</a:t>
            </a:r>
            <a:endParaRPr b="0" lang="en-US" sz="2400" spc="-1" strike="noStrike">
              <a:solidFill>
                <a:srgbClr val="000000"/>
              </a:solidFill>
              <a:latin typeface="Times New Roman"/>
            </a:endParaRPr>
          </a:p>
        </p:txBody>
      </p:sp>
      <p:pic>
        <p:nvPicPr>
          <p:cNvPr id="100" name="" descr=""/>
          <p:cNvPicPr/>
          <p:nvPr/>
        </p:nvPicPr>
        <p:blipFill>
          <a:blip r:embed="rId3"/>
          <a:stretch/>
        </p:blipFill>
        <p:spPr>
          <a:xfrm>
            <a:off x="539640" y="1413000"/>
            <a:ext cx="3254400" cy="442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Overflytning af patient 2</a:t>
            </a:r>
            <a:endParaRPr b="0" lang="en-US" sz="3600" spc="-1" strike="noStrike">
              <a:solidFill>
                <a:srgbClr val="000000"/>
              </a:solidFill>
              <a:latin typeface="Times New Roman"/>
            </a:endParaRPr>
          </a:p>
        </p:txBody>
      </p:sp>
      <p:sp>
        <p:nvSpPr>
          <p:cNvPr id="102" name=""/>
          <p:cNvSpPr/>
          <p:nvPr/>
        </p:nvSpPr>
        <p:spPr>
          <a:xfrm>
            <a:off x="682560" y="1701720"/>
            <a:ext cx="79930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Giv modtageren mulighed for at stille spørgsmål</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Brug tjek-svar for at bekræfte detaljer og aftaler</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fgiv så vidt muligt informationen uden afbrydelser</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Gennemfør evt. overdragelsen sammen med patienten eller de pårørende</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ørg for at oplysninger og aftaler fremgår af journal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160" y="74160"/>
            <a:ext cx="38862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Øvelse </a:t>
            </a:r>
            <a:endParaRPr b="0" lang="en-US" sz="4000" spc="-1" strike="noStrike">
              <a:solidFill>
                <a:srgbClr val="000000"/>
              </a:solidFill>
              <a:latin typeface="Times New Roman"/>
            </a:endParaRPr>
          </a:p>
        </p:txBody>
      </p:sp>
      <p:sp>
        <p:nvSpPr>
          <p:cNvPr id="104" name="PlaceHolder 2"/>
          <p:cNvSpPr>
            <a:spLocks noGrp="1"/>
          </p:cNvSpPr>
          <p:nvPr>
            <p:ph/>
          </p:nvPr>
        </p:nvSpPr>
        <p:spPr>
          <a:xfrm>
            <a:off x="685800" y="1142640"/>
            <a:ext cx="7772400" cy="487692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Arial"/>
              </a:rPr>
              <a:t>To og to: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1. person ’ringe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2. person ’tager telefonen’</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Arial"/>
              </a:rPr>
              <a:t>Gennemgå ’ISBAR’ og ’tjek-svar’ vha. cases (udleveret) – tre gange hv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Times New Roman"/>
              </a:rPr>
              <a:t>Prøv derefter en ’ISBAR med SALS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Arial"/>
              </a:rPr>
              <a:t>Fokuser på kommunikation – ikke på klinik</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Arial"/>
              </a:rPr>
              <a:t>15 minu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520" y="111240"/>
            <a:ext cx="77724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Indhold</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422000"/>
            <a:ext cx="7772400" cy="438300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ommunikation under pr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Problematisk kommunik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trategier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truktureret kommunikation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Entydig sprogbrug</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Brug af navne, white board og øjenkontak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Redskaber:</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ISBA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jek-sva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ISBAR med SALSA</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eedba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520" y="111240"/>
            <a:ext cx="77724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psummering</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422000"/>
            <a:ext cx="7772400" cy="438300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ommunikation under pr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Problematisk kommunik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trategier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truktureret kommunikation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Entydig sprogbrug</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Brug af navne, white board og øjenkontak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Redskaber:</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ISBA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jek-sva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ISBAR med SALSA</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eedba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13840"/>
            <a:ext cx="54878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Verdana"/>
              </a:rPr>
              <a:t>Kommunikation…</a:t>
            </a:r>
            <a:endParaRPr b="0" lang="en-US" sz="4400" spc="-1" strike="noStrike">
              <a:solidFill>
                <a:srgbClr val="000000"/>
              </a:solidFill>
              <a:latin typeface="Times New Roman"/>
            </a:endParaRPr>
          </a:p>
        </p:txBody>
      </p:sp>
      <p:sp>
        <p:nvSpPr>
          <p:cNvPr id="53" name="PlaceHolder 2"/>
          <p:cNvSpPr>
            <a:spLocks noGrp="1"/>
          </p:cNvSpPr>
          <p:nvPr>
            <p:ph/>
          </p:nvPr>
        </p:nvSpPr>
        <p:spPr>
          <a:xfrm>
            <a:off x="395280" y="1474920"/>
            <a:ext cx="5472000" cy="440208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a:t>
            </a:r>
            <a:r>
              <a:rPr b="0" lang="da-DK" sz="3200" spc="-1" strike="noStrike">
                <a:solidFill>
                  <a:srgbClr val="000000"/>
                </a:solidFill>
                <a:latin typeface="Verdana"/>
              </a:rPr>
              <a:t>er en proces for informationsudveksling mellem mennesker.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Formålet er, at modtageren forstår, hvad afsenderen men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a:t>
            </a:r>
            <a:r>
              <a:rPr b="0" lang="da-DK" sz="3200" spc="-1" strike="noStrike">
                <a:solidFill>
                  <a:srgbClr val="000000"/>
                </a:solidFill>
                <a:latin typeface="Verdana"/>
              </a:rPr>
              <a:t>sikrer teamsamarbejdet</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6084720" y="4273560"/>
            <a:ext cx="2590920" cy="153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520" y="74160"/>
            <a:ext cx="73929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Kommunikation under pre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Forholdet mellem relationer og indhold ændres, fx</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
          <p:cNvSpPr/>
          <p:nvPr/>
        </p:nvSpPr>
        <p:spPr>
          <a:xfrm>
            <a:off x="1219320" y="3124080"/>
            <a:ext cx="2743200" cy="190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447920" y="3276720"/>
            <a:ext cx="2286000" cy="1600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981080" y="4724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Relationer</a:t>
            </a:r>
            <a:endParaRPr b="0" lang="en-US" sz="1800" spc="-1" strike="noStrike">
              <a:solidFill>
                <a:srgbClr val="000000"/>
              </a:solidFill>
              <a:latin typeface="Times New Roman"/>
            </a:endParaRPr>
          </a:p>
        </p:txBody>
      </p:sp>
      <p:sp>
        <p:nvSpPr>
          <p:cNvPr id="60" name=""/>
          <p:cNvSpPr/>
          <p:nvPr/>
        </p:nvSpPr>
        <p:spPr>
          <a:xfrm>
            <a:off x="5470560" y="1260360"/>
            <a:ext cx="1463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114800" y="3809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62" name=""/>
          <p:cNvSpPr/>
          <p:nvPr/>
        </p:nvSpPr>
        <p:spPr>
          <a:xfrm>
            <a:off x="1905120" y="34894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Indhold</a:t>
            </a:r>
            <a:endParaRPr b="0" lang="en-US" sz="1800" spc="-1" strike="noStrike">
              <a:solidFill>
                <a:srgbClr val="000000"/>
              </a:solidFill>
              <a:latin typeface="Times New Roman"/>
            </a:endParaRPr>
          </a:p>
        </p:txBody>
      </p:sp>
      <p:sp>
        <p:nvSpPr>
          <p:cNvPr id="63" name=""/>
          <p:cNvSpPr/>
          <p:nvPr/>
        </p:nvSpPr>
        <p:spPr>
          <a:xfrm>
            <a:off x="4800600" y="3048120"/>
            <a:ext cx="2743200" cy="1904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429000"/>
            <a:ext cx="76212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86400" y="44038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Relationer</a:t>
            </a:r>
            <a:endParaRPr b="0" lang="en-US" sz="1800" spc="-1" strike="noStrike">
              <a:solidFill>
                <a:srgbClr val="000000"/>
              </a:solidFill>
              <a:latin typeface="Times New Roman"/>
            </a:endParaRPr>
          </a:p>
        </p:txBody>
      </p:sp>
      <p:sp>
        <p:nvSpPr>
          <p:cNvPr id="66" name=""/>
          <p:cNvSpPr/>
          <p:nvPr/>
        </p:nvSpPr>
        <p:spPr>
          <a:xfrm>
            <a:off x="5791320" y="37180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Indhold</a:t>
            </a:r>
            <a:endParaRPr b="0" lang="en-US" sz="1800" spc="-1" strike="noStrike">
              <a:solidFill>
                <a:srgbClr val="000000"/>
              </a:solidFill>
              <a:latin typeface="Times New Roman"/>
            </a:endParaRPr>
          </a:p>
        </p:txBody>
      </p:sp>
      <p:sp>
        <p:nvSpPr>
          <p:cNvPr id="67" name=""/>
          <p:cNvSpPr/>
          <p:nvPr/>
        </p:nvSpPr>
        <p:spPr>
          <a:xfrm>
            <a:off x="395280" y="6308640"/>
            <a:ext cx="309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Verdana"/>
              </a:rPr>
              <a:t>Ref.: Morten Ejlskov</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160" y="74160"/>
            <a:ext cx="68598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Problematisk kommunikation</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7002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a:t>
            </a:r>
            <a:r>
              <a:rPr b="0" i="1" lang="da-DK" sz="3200" spc="-1" strike="noStrike">
                <a:solidFill>
                  <a:srgbClr val="000000"/>
                </a:solidFill>
                <a:latin typeface="Verdana"/>
              </a:rPr>
              <a:t>hint and hope´</a:t>
            </a:r>
            <a:r>
              <a:rPr b="0" lang="da-DK" sz="3200" spc="-1" strike="noStrike">
                <a:solidFill>
                  <a:srgbClr val="000000"/>
                </a:solidFill>
                <a:latin typeface="Verdana"/>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Forkortels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Slang (speciale, faggrupp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Nedsættende udtry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Sarkasm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Faggruppers og specialers forskellighe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932360" y="2781360"/>
            <a:ext cx="3743280" cy="10080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Verdana"/>
              </a:rPr>
              <a:t>Strategier</a:t>
            </a:r>
            <a:endParaRPr b="0" lang="en-US" sz="4400" spc="-1" strike="noStrike">
              <a:solidFill>
                <a:srgbClr val="000000"/>
              </a:solidFill>
              <a:latin typeface="Times New Roman"/>
            </a:endParaRPr>
          </a:p>
        </p:txBody>
      </p:sp>
      <p:pic>
        <p:nvPicPr>
          <p:cNvPr id="71" name="" descr=""/>
          <p:cNvPicPr/>
          <p:nvPr/>
        </p:nvPicPr>
        <p:blipFill>
          <a:blip r:embed="rId1"/>
          <a:stretch/>
        </p:blipFill>
        <p:spPr>
          <a:xfrm>
            <a:off x="1116000" y="1125360"/>
            <a:ext cx="3646440" cy="482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520" y="74160"/>
            <a:ext cx="69357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Struktur (strategi 1)</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371600"/>
            <a:ext cx="7772400" cy="464832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Erfaringer fra luftfarten, USA, atomubåde og utilsigtede hændels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800" spc="-1" strike="noStrike">
                <a:solidFill>
                  <a:srgbClr val="000000"/>
                </a:solidFill>
                <a:latin typeface="Verdana"/>
              </a:rPr>
              <a:t>Afsender</a:t>
            </a:r>
            <a:r>
              <a:rPr b="0" lang="da-DK" sz="2800" spc="-1" strike="noStrike">
                <a:solidFill>
                  <a:srgbClr val="000000"/>
                </a:solidFill>
                <a:latin typeface="Verdana"/>
              </a:rPr>
              <a:t>: Tænker før man tal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tøtte ved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Kompleksite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Uerfarenhe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ravlhed/panik</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Modtager</a:t>
            </a:r>
            <a:r>
              <a:rPr b="0" lang="en-US" sz="2800" spc="-1" strike="noStrike">
                <a:solidFill>
                  <a:srgbClr val="000000"/>
                </a:solidFill>
                <a:latin typeface="Verdana"/>
              </a:rPr>
              <a:t>: Forudsigeligh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 nødvendigst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89000"/>
            <a:ext cx="655488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Her kan man strukturere</a:t>
            </a:r>
            <a:endParaRPr b="0" lang="en-US" sz="3600" spc="-1" strike="noStrike">
              <a:solidFill>
                <a:srgbClr val="000000"/>
              </a:solidFill>
              <a:latin typeface="Times New Roman"/>
            </a:endParaRPr>
          </a:p>
        </p:txBody>
      </p:sp>
      <p:sp>
        <p:nvSpPr>
          <p:cNvPr id="75" name="PlaceHolder 2"/>
          <p:cNvSpPr>
            <a:spLocks noGrp="1"/>
          </p:cNvSpPr>
          <p:nvPr>
            <p:ph/>
          </p:nvPr>
        </p:nvSpPr>
        <p:spPr>
          <a:xfrm>
            <a:off x="914400" y="1599840"/>
            <a:ext cx="7772400" cy="426708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upervisio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onferenc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Vagtskif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Overflytn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dlæggels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Mundtlige ordination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eamsamarbejd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4920" y="287280"/>
            <a:ext cx="77724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Entydig sprogbrug (strategi 2)</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750680"/>
            <a:ext cx="7772400" cy="362268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al tydeligt, klart og evt. med struktu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al direkte - brug navne &amp; spørg v. tviv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Overvej brug af slang og lokale forkortels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ndgå sarkasme og nedsættende udtry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kab enighed om betydninger (Sikre Sætning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9:39:23Z</dcterms:created>
  <dc:creator>Susanne Vestergaard</dc:creator>
  <dc:description/>
  <dc:language>en-US</dc:language>
  <cp:lastModifiedBy>Hvidovre Hospital</cp:lastModifiedBy>
  <cp:lastPrinted>2007-04-03T12:44:06Z</cp:lastPrinted>
  <dcterms:modified xsi:type="dcterms:W3CDTF">2007-04-13T15:08:22Z</dcterms:modified>
  <cp:revision>87</cp:revision>
  <dc:subject/>
  <dc:title>TRYG cases</dc:title>
</cp:coreProperties>
</file>