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wmf" ContentType="image/x-wmf"/>
  <Override PartName="/ppt/media/image9.wmf" ContentType="image/x-wmf"/>
  <Override PartName="/ppt/media/image2.jpeg" ContentType="image/jpeg"/>
  <Override PartName="/ppt/media/image3.png" ContentType="image/png"/>
  <Override PartName="/ppt/media/image4.jpeg" ContentType="image/jpeg"/>
  <Override PartName="/ppt/media/image10.wmf" ContentType="image/x-wmf"/>
  <Override PartName="/ppt/media/image11.png" ContentType="image/png"/>
  <Override PartName="/ppt/media/image5.wmf" ContentType="image/x-wmf"/>
  <Override PartName="/ppt/media/image6.jpeg" ContentType="image/jpeg"/>
  <Override PartName="/ppt/media/image1.jpeg" ContentType="image/jpeg"/>
  <Override PartName="/ppt/media/image7.png" ContentType="image/png"/>
  <Override PartName="/ppt/media/image12.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DA7A-EAD5-4DCE-BB67-2278661AC65F}"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oogle.dk/url?sa=X&amp;start=5&amp;oi=define&amp;q=http://en.wikipedia.org/wiki/Teamwork&amp;usg=__L1qbZU7BIIErSPt0xepiaBck-vU=" TargetMode="External"/><Relationship Id="rId2" Type="http://schemas.openxmlformats.org/officeDocument/2006/relationships/hyperlink" Target="http://www.google.dk/url?sa=X&amp;start=5&amp;oi=define&amp;q=http://en.wikipedia.org/wiki/Teamwork&amp;usg=__L1qbZU7BIIErSPt0xepiaBck-vU=" TargetMode="External"/><Relationship Id="rId3" Type="http://schemas.openxmlformats.org/officeDocument/2006/relationships/hyperlink" Target="http://www.google.dk/url?sa=X&amp;start=5&amp;oi=define&amp;q=http://en.wikipedia.org/wiki/Teamwork&amp;usg=__L1qbZU7BIIErSPt0xepiaBck-vU=" TargetMode="External"/><Relationship Id="rId4" Type="http://schemas.openxmlformats.org/officeDocument/2006/relationships/hyperlink" Target="http://www.google.dk/url?sa=X&amp;start=5&amp;oi=define&amp;q=http://en.wikipedia.org/wiki/Teamwork&amp;usg=__L1qbZU7BIIErSPt0xepiaBck-vU="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yd velkomm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ræsenter kort dagens underviser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tæl, at Sikker Mundtlig Kommunikation er udviklet af Dansk Selskab for Patientsikkerhed i samarbejde med Dansk Institut for Medicinsk Simul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odulet varer frem til frokost, og det er derfor meget vigtigt at holde pauser fx en kaffepause á 15 minutter og to kortere pauser á fem minut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0920" y="692280"/>
            <a:ext cx="4556160" cy="341604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ør man går i gang med modulet kan man passende starte med en øvelse, hvor deltagerne skal være kreative.</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Øvelsen foregår i de grupper deltagerne er inddelt i i forvejen (fire-syv) personer.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1. Sig: </a:t>
            </a:r>
            <a:r>
              <a:rPr b="0" i="1" lang="da-DK" sz="1000" spc="-1" strike="noStrike">
                <a:solidFill>
                  <a:srgbClr val="000000"/>
                </a:solidFill>
                <a:latin typeface="Verdana"/>
              </a:rPr>
              <a:t>’For at lave kæder, skal I klippe papiret i strimler og lave en ring og tape den sammen. Sæt så den næste strimmels ind i gennem, så de to led sidder sammen fortsæt sådan i to minutter – den længste kæde vinder’.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to minutter sammenlignes gruppernes kæder. Hæng kæderne op. Spørg gruppen med den længste kæde, hvad de gjorde godt. Spørg gruppen med den korteste kæde, om der var noget der gik galt?</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2. Sig: </a:t>
            </a:r>
            <a:r>
              <a:rPr b="0" i="1" lang="da-DK" sz="1000" spc="-1" strike="noStrike">
                <a:solidFill>
                  <a:srgbClr val="000000"/>
                </a:solidFill>
                <a:latin typeface="Verdana"/>
              </a:rPr>
              <a:t>’Nu skal I lave en ny kæde. Men I må ikke tale sammen – værsgo to minutter</a:t>
            </a:r>
            <a:r>
              <a:rPr b="0" lang="da-DK" sz="1000" spc="-1" strike="noStrike">
                <a:solidFill>
                  <a:srgbClr val="000000"/>
                </a:solidFill>
                <a:latin typeface="Verdana"/>
              </a:rPr>
              <a:t>’.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to minutter sammenlignes gruppernes kæder. Hæng kæderne op. Spørg gruppen med den længste kæde, hvad de gjorde godt. Spørg gruppen med den korteste kæde, om der var noget der gik galt?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3. Sig: </a:t>
            </a:r>
            <a:r>
              <a:rPr b="0" i="1" lang="da-DK" sz="1000" spc="-1" strike="noStrike">
                <a:solidFill>
                  <a:srgbClr val="000000"/>
                </a:solidFill>
                <a:latin typeface="Verdana"/>
              </a:rPr>
              <a:t>’Nu får I endnu en chance for at vinde. Men denne gang må I heller ikke tale sammen, men I får 30 sekunder til at tale sammen og forberede arbejdet inden I starter</a:t>
            </a:r>
            <a:r>
              <a:rPr b="0" lang="da-DK" sz="1000" spc="-1" strike="noStrike">
                <a:solidFill>
                  <a:srgbClr val="000000"/>
                </a:solidFill>
                <a:latin typeface="Verdana"/>
              </a:rPr>
              <a:t>’.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to et halvt minut sammenlignes gruppernes kæder. Hæng kæderne op. Spørg gruppen med den længste kæde, hvad de gjorde godt. Spørg gruppen med den korteste kæde, om der var noget der gik galt?</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år øvelsen er slut fortælles, at øvelsen var et eksempel på et teamsamarbejde (se næste slide).</a:t>
            </a: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92280"/>
            <a:ext cx="455616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lippe-klistre-legen var et eksempel på et teamsamarbejde, dv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anden definition er den fra Wikipedia, som man kan vælge at inddrage: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Teamwork is the concept of people working together as a team. The concept has spread from the world of sports where it is well known and accepted, to business, so much so that it is in danger of being considered by some as an empty buzzword, or a form of corporate-speak. In the 21st century, as people are becoming more sophisticated and society is becoming more technically advanced, working as a team makes it easier to accomplish goals’. </a:t>
            </a:r>
            <a:br>
              <a:rPr sz="1000"/>
            </a:br>
            <a:r>
              <a:rPr b="0" lang="da-DK" sz="1000" spc="-1" strike="noStrike" u="sng">
                <a:solidFill>
                  <a:srgbClr val="ccccff"/>
                </a:solidFill>
                <a:uFillTx/>
                <a:latin typeface="Verdana"/>
                <a:hlinkClick r:id="rId1"/>
              </a:rPr>
              <a:t>en.wikipedia.org</a:t>
            </a:r>
            <a:r>
              <a:rPr b="0" lang="da-DK" sz="1000" spc="-1" strike="noStrike" u="sng">
                <a:solidFill>
                  <a:srgbClr val="ccccff"/>
                </a:solidFill>
                <a:uFillTx/>
                <a:latin typeface="Verdana"/>
                <a:hlinkClick r:id="rId2"/>
              </a:rPr>
              <a:t>/</a:t>
            </a:r>
            <a:r>
              <a:rPr b="0" lang="da-DK" sz="1000" spc="-1" strike="noStrike" u="sng">
                <a:solidFill>
                  <a:srgbClr val="ccccff"/>
                </a:solidFill>
                <a:uFillTx/>
                <a:latin typeface="Verdana"/>
                <a:hlinkClick r:id="rId3"/>
              </a:rPr>
              <a:t>wiki</a:t>
            </a:r>
            <a:r>
              <a:rPr b="0" lang="da-DK" sz="1000" spc="-1" strike="noStrike" u="sng">
                <a:solidFill>
                  <a:srgbClr val="ccccff"/>
                </a:solidFill>
                <a:uFillTx/>
                <a:latin typeface="Verdana"/>
                <a:hlinkClick r:id="rId4"/>
              </a:rPr>
              <a:t>/Teamwork</a:t>
            </a: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videns for ovenstående:  </a:t>
            </a:r>
            <a:endParaRPr b="0" lang="en-US" sz="1000" spc="-1" strike="noStrike">
              <a:solidFill>
                <a:srgbClr val="000000"/>
              </a:solidFill>
              <a:latin typeface="Verdana"/>
            </a:endParaRPr>
          </a:p>
          <a:p>
            <a:pPr>
              <a:lnSpc>
                <a:spcPct val="100000"/>
              </a:lnSpc>
              <a:spcBef>
                <a:spcPts val="374"/>
              </a:spcBef>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Forskning inden for luft- og søfart har vist, at fokus på teamarbejde og kommunikation mellem teammedlemmer kan have afgørende betydning for menneskers præstationsevne og for sikkerheden.</a:t>
            </a:r>
            <a:endParaRPr b="0" lang="en-US" sz="1000" spc="-1" strike="noStrike">
              <a:solidFill>
                <a:srgbClr val="000000"/>
              </a:solidFill>
              <a:latin typeface="Verdana"/>
            </a:endParaRPr>
          </a:p>
          <a:p>
            <a:pPr>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Helmreich, en professor i flyvepsykologi, har sammenlignet piloter og lægers kommunikation og selvopfattelse i relation til håndtering af kritiske situationer. Undersøgelsen viste bl.a., at interpersonelle relationer og upræcis kommunikation i sundhedsvæsnet er årsag til ineffektivitet, fejl og frustrationer. Man fandt også, at der blev anskaffet nyt og mere avanceret udstyr for at undgå fejl og løse problemer. En forbedring i oplæring, uddannelse, kommunikation og teamarbejde kunne have været langt mere effektfuld og billigere(Sexton og Helmreich 2000)</a:t>
            </a:r>
            <a:endParaRPr b="0" lang="en-US" sz="1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e evt. flere referencer i referencelisten og referer evt. til slide 30 fra slutningen af modul A, der viser behandlingsresultater på afdelinger, der har undervist personalet i CRM.</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er endnu ingen undersøgelser der viser, at det giver større patienttilfredshed i sig selv, at patienterne oplever et godt samarbejde blandt personalet, men det er sandsynligt.</a:t>
            </a:r>
            <a:endParaRPr b="0" lang="en-US" sz="10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0920" y="692280"/>
            <a:ext cx="4556160" cy="341604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later klippe-klistreøvelsen til ovenstående kompetencer. De stammer fra et europæisk forskningsprojekt om kommunikation, teamledelse og samarbejde i højrisikobrancher – bl.a. sundhedsvæsnet - med deltagelse af amerikanske og europæiske kapaciteter indenfor området (GIHRE – group interaction in high risk invirronments). Indikatorerne kan genfindes i håndbogen side 11 og 12.</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uirlanden er et resultat af deres samarbejde, og bruges som eksempel på et team, der ikke har arbejdet sammen før. Opgaven er kompliceret af kommunikationsproblemer (deltagerne måtte ikke tale sammen), men de fik også løsningen, nemlig en briefing inden sidste runde. Internationale studier viser, at disse kompetencer er væsentlige, hvis man vil etablere et godt teamsamarbej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kompetencerne og henvis til gruppernes opgaveløs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tæl, at de vil høre meget mere om de kompetencer i løbet af kurs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4160" y="701640"/>
            <a:ext cx="4586400" cy="3440160"/>
          </a:xfrm>
          <a:prstGeom prst="rect">
            <a:avLst/>
          </a:prstGeom>
          <a:ln w="0">
            <a:noFill/>
          </a:ln>
        </p:spPr>
      </p:sp>
      <p:sp>
        <p:nvSpPr>
          <p:cNvPr id="223" name="PlaceHolder 2"/>
          <p:cNvSpPr>
            <a:spLocks noGrp="1"/>
          </p:cNvSpPr>
          <p:nvPr>
            <p:ph type="body"/>
          </p:nvPr>
        </p:nvSpPr>
        <p:spPr>
          <a:xfrm>
            <a:off x="939960" y="4350960"/>
            <a:ext cx="5014800" cy="414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ør undervisningen går videre med teamsamarbejdet, tager vi lige en kort afstikker til patientsikkerhed, da analyser af utilsigtede hændelser er en væsentlig del af baggrunden for undervisningen, og sundhedspersonale er forpligtet til at rapportere utilsigtede hændelser med det formål at forebygge gentag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finition af en utilsigtet hændelse (fejl og nærhændelser): </a:t>
            </a:r>
            <a:r>
              <a:rPr b="1" lang="da-DK" sz="1000" spc="-1" strike="noStrike">
                <a:solidFill>
                  <a:srgbClr val="000000"/>
                </a:solidFill>
                <a:latin typeface="Verdana"/>
              </a:rPr>
              <a:t>E</a:t>
            </a:r>
            <a:r>
              <a:rPr b="1" lang="da-DK" sz="1000" spc="-1" strike="noStrike">
                <a:solidFill>
                  <a:srgbClr val="ffffff"/>
                </a:solidFill>
                <a:latin typeface="Verdana"/>
              </a:rPr>
              <a:t>n ikke-tilstræbt begivenhed, der skader patienten, eller medfører risiko for skade som følge af sundhedsvæsenets handlinger eller mangel på samme </a:t>
            </a:r>
            <a:r>
              <a:rPr b="0" lang="da-DK" sz="1000" spc="-1" strike="noStrike">
                <a:solidFill>
                  <a:srgbClr val="ffffff"/>
                </a:solidFill>
                <a:latin typeface="Verdana"/>
              </a:rPr>
              <a:t>(kilde: www.dpsd.dk).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0920" y="692280"/>
            <a:ext cx="4556160" cy="341604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ea typeface="Arial"/>
              </a:rPr>
              <a:t>Sig fx: </a:t>
            </a:r>
            <a:r>
              <a:rPr b="0" i="1" lang="da-DK" sz="1000" spc="-1" strike="noStrike">
                <a:solidFill>
                  <a:srgbClr val="000000"/>
                </a:solidFill>
                <a:latin typeface="Arial"/>
                <a:ea typeface="Arial"/>
              </a:rPr>
              <a:t>’I 2001 viste en dansk undersøgelse: 'Utilsigtede hændelser på danske sygehuse’, baseret på retrospektiv struktureret journalgennemgang, at den samlede forekomst af utilsigtede hændelser på danske sygehuse er betydeligt og på niveau med forekomsten internationalt. Patienternes risiko for at pådrage sig mindst en utilsigtet hændelse under heldøgnsindlæggelse på somatiske sygehuse viste sig at være 5,3 pct. Deraf skønnedes fire af ti utilsigtede hændelsesforløb at kunne være forebygget under optimale forhold. Undersøgelsen fandt, at ni pct. af danske somatiske heldøgnsindlæggelser helt eller delvist er belastet af følgevirkningerne af utilsigtede hændelser. De anførte hændelsesforløb giver i gennemsnit anledning til syv ekstra sengedage pr. hændelse</a:t>
            </a:r>
            <a:r>
              <a:rPr b="0" lang="da-DK" sz="1000" spc="-1" strike="noStrike">
                <a:solidFill>
                  <a:srgbClr val="000000"/>
                </a:solidFill>
                <a:latin typeface="Arial"/>
                <a:ea typeface="Arial"/>
              </a:rPr>
              <a:t>’. </a:t>
            </a:r>
            <a:endParaRPr b="0" lang="en-US" sz="1000" spc="-1" strike="noStrike">
              <a:solidFill>
                <a:srgbClr val="000000"/>
              </a:solidFill>
              <a:latin typeface="Verdan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ea typeface="Arial"/>
              </a:rPr>
              <a:t>Hvis der findes lokale data, der kan erstatte disse tal eller supplere dem, vil det være relevant.</a:t>
            </a:r>
            <a:endParaRPr b="0" lang="en-US" sz="1000" spc="-1" strike="noStrike">
              <a:solidFill>
                <a:srgbClr val="000000"/>
              </a:solidFill>
              <a:latin typeface="Verdan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ea typeface="Arial"/>
              </a:rPr>
              <a:t>Ref.: Schiøler et al, 2001)</a:t>
            </a:r>
            <a:endParaRPr b="0" lang="en-US" sz="1000" spc="-1" strike="noStrike">
              <a:solidFill>
                <a:srgbClr val="000000"/>
              </a:solidFill>
              <a:latin typeface="Verdan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findes to kulturer, når man taler om opfattelser af fejl. Individperspektivet var mest fremherskende tidligere i sundhedsvæsnet indtil omkring 2000. Her blev man opmærksom på, at andre højrisikobrancher som fx luftfarten og atomkraftindustrien, havde god effekt af at analysere fejl for at forebygge, at de skete ig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nktioner af det enkelte personalemedlem kan forebygge, at den enkelte begår den samme fejl igen – men ikke at hændelsen kan finde sted et andet sted i organisationen.</a:t>
            </a:r>
            <a:endParaRPr b="0" lang="en-US" sz="10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4160" y="692280"/>
            <a:ext cx="4554360" cy="3416040"/>
          </a:xfrm>
          <a:prstGeom prst="rect">
            <a:avLst/>
          </a:prstGeom>
          <a:ln w="0">
            <a:noFill/>
          </a:ln>
        </p:spPr>
      </p:sp>
      <p:sp>
        <p:nvSpPr>
          <p:cNvPr id="22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Unicode MS"/>
              </a:rPr>
              <a:t>I et systemperspektiv nytter det at kende til fejl og nærhændelser fordi de betragtes som et tegn på uhensigtsmæssigheder i organisationen. Derfor vedtog Folketinget i 2003 …(næste slide)</a:t>
            </a:r>
            <a:endParaRPr b="0" lang="en-US" sz="2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46FC-D86F-41E4-A7BC-2B83622CF705}"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Lov om patientsikkerhed (Lov om Patientsikkerhed, 2003)</a:t>
            </a:r>
            <a:endParaRPr b="0" lang="en-US" sz="10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ersonale et beskyttet af loven. Den betyder dog ikke IKKE, at en sundhedsperson er fritaget for disciplinære undersøgelser, hvis hændelsen er rapporteret. Men det betyder, at selve rapporteringen ikke kan danne grundlag for disciplinære foranstaltninger. </a:t>
            </a:r>
            <a:endParaRPr b="0" lang="en-US" sz="10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tæl, at dagen er inddelt i fem moduler</a:t>
            </a: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01F4-98D1-4DC6-B463-ADAD737EA5B8}"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undhedspersonalet er gode til at rapportere utilsigtede hændels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2004: ca. 6000 hændels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2005: Ca. 11.000 hændels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2006: Ca. 12.000 hændelser</a:t>
            </a:r>
            <a:endParaRPr b="0" lang="en-US" sz="10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50920" y="692280"/>
            <a:ext cx="4556160" cy="341604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ltagerne er i deltagermaterialet (tilsendt med posten) fået til opgave at finde tre eksempler frem, som de her skal anven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iv grupperne 10-15 minutter til at diskutere spørgsmålene. I plenum giver grupperne svar på spørgsmålene (de vigtigste svar). Noter på tavlen for at understrege det vigtigst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is fokus entydigt bliver på økonomi, så understreg, at der er mange løsninger inden for de nuværende rammer, hvor en ændring af rutinerne er nok til at styrke sikkerheden.</a:t>
            </a:r>
            <a:endParaRPr b="0" lang="en-US" sz="10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50920" y="692280"/>
            <a:ext cx="4556160" cy="341604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holdes et 15 minutters oplæg ved en </a:t>
            </a:r>
            <a:r>
              <a:rPr b="1" lang="da-DK" sz="1000" spc="-1" strike="noStrike">
                <a:solidFill>
                  <a:srgbClr val="000000"/>
                </a:solidFill>
                <a:latin typeface="Verdana"/>
              </a:rPr>
              <a:t>lokal leder, risikomanager</a:t>
            </a:r>
            <a:r>
              <a:rPr b="0" lang="da-DK" sz="1000" spc="-1" strike="noStrike">
                <a:solidFill>
                  <a:srgbClr val="000000"/>
                </a:solidFill>
                <a:latin typeface="Verdana"/>
              </a:rPr>
              <a:t> </a:t>
            </a:r>
            <a:r>
              <a:rPr b="1" lang="da-DK" sz="1000" spc="-1" strike="noStrike">
                <a:solidFill>
                  <a:srgbClr val="000000"/>
                </a:solidFill>
                <a:latin typeface="Verdana"/>
              </a:rPr>
              <a:t>eller patientsikkerhedsansvarlig</a:t>
            </a:r>
            <a:r>
              <a:rPr b="0" lang="da-DK" sz="1000" spc="-1" strike="noStrike">
                <a:solidFill>
                  <a:srgbClr val="000000"/>
                </a:solidFill>
                <a:latin typeface="Verdana"/>
              </a:rPr>
              <a:t>, der kan fortælle om det lokale arbejde for patientsikkerhed og afdelingens motivation for at tilbyde medarbejderne undervisning i Sikker Mundtlig Kommunikation.</a:t>
            </a:r>
            <a:endParaRPr b="0" lang="en-US" sz="10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verste bullet</a:t>
            </a:r>
            <a:r>
              <a:rPr b="0" lang="da-DK" sz="1000" spc="-1" strike="noStrike">
                <a:solidFill>
                  <a:srgbClr val="000000"/>
                </a:solidFill>
                <a:latin typeface="Verdana"/>
              </a:rPr>
              <a:t>: Datagrundlaget er opgørelser af 3400 kerneårsagsanalyser fra Joint Commission. Der er her både tale om kommunikation mellem sundhedspersonale og med patienter og pårørende samt både skriftlig og mundtlig kommunik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ellemste bullet</a:t>
            </a:r>
            <a:r>
              <a:rPr b="0" lang="da-DK" sz="1000" spc="-1" strike="noStrike">
                <a:solidFill>
                  <a:srgbClr val="000000"/>
                </a:solidFill>
                <a:latin typeface="Verdana"/>
              </a:rPr>
              <a:t>: Bygger på opgørelse af alle kerneårsagsanalyser i H:S fra perioden 2002-2006 (N=165)</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e bullet</a:t>
            </a:r>
            <a:r>
              <a:rPr b="0" lang="da-DK" sz="1000" spc="-1" strike="noStrike">
                <a:solidFill>
                  <a:srgbClr val="000000"/>
                </a:solidFill>
                <a:latin typeface="Verdana"/>
              </a:rPr>
              <a:t>: Data fra H:S i 3. kvartal 2006: Kvalitativ opgørelse af et helt kvartals hændelser (N=1000). Ud af 20 pct. af hændelserne kunne man umiddelbart i rapporteringsteksten læse, at hændelsen helt eller delvist skyldtes svigt i den mundtlige kommunikation mellem sundhedspersonale. </a:t>
            </a:r>
            <a:endParaRPr b="0" lang="en-US" sz="10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0920" y="692280"/>
            <a:ext cx="4556160" cy="341604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ersonalet oplever kommunikationsproblemer (kun internationale data – ingen danske data endnu):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exton 2000:</a:t>
            </a:r>
            <a:r>
              <a:rPr b="0" lang="da-DK" sz="1000" spc="-1" strike="noStrike">
                <a:solidFill>
                  <a:srgbClr val="000000"/>
                </a:solidFill>
                <a:latin typeface="Verdana"/>
              </a:rPr>
              <a:t> Man spurgte operationspersonale, og jo ’lavere i hierakiet’ eller jo mere uerfaren, desto færre syntes, at de erfarne kirurger var gode til teamwork. Bygger på amerikanske dat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homas, 2003: </a:t>
            </a:r>
            <a:r>
              <a:rPr b="0" lang="da-DK" sz="1000" spc="-1" strike="noStrike">
                <a:solidFill>
                  <a:srgbClr val="000000"/>
                </a:solidFill>
                <a:latin typeface="Verdana"/>
              </a:rPr>
              <a:t>73 pct. af læger synes, at sygeplejersker er gode til at kommunikere og 33 pct. af sygeplejersker synes, at læger er gode til at kommunikere. Vigtigt at understrege, at det er amerikanske data, og at vi ikke har tilsvarende data om dansk sundhedspersonal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e bullet:</a:t>
            </a:r>
            <a:r>
              <a:rPr b="0" lang="da-DK" sz="1000" spc="-1" strike="noStrike">
                <a:solidFill>
                  <a:srgbClr val="000000"/>
                </a:solidFill>
                <a:latin typeface="Verdana"/>
              </a:rPr>
              <a:t> Der findes ikke opgørelser for andre faggrupper, men data om medicinstuderende bekræfter disse data (her er tallet 1/6)</a:t>
            </a:r>
            <a:endParaRPr b="0" lang="en-US" sz="10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0920" y="692280"/>
            <a:ext cx="4556160" cy="341604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venstående bygger på opgørelser af danske analyser af alvorlige utilsigtede hændelser (kerneårsagsanalyser) og fokusinterviews med dansk sundhedspersonale.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klaringer til de enkelte bullet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klar telefonkommunikation</a:t>
            </a:r>
            <a:r>
              <a:rPr b="0" lang="da-DK" sz="1000" spc="-1" strike="noStrike">
                <a:solidFill>
                  <a:srgbClr val="000000"/>
                </a:solidFill>
                <a:latin typeface="Verdana"/>
              </a:rPr>
              <a:t>: Særligt ved travlhed, og når den, der ringer er uerfar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klar kommunikation ved teamdannelse</a:t>
            </a:r>
            <a:r>
              <a:rPr b="0" lang="da-DK" sz="1000" spc="-1" strike="noStrike">
                <a:solidFill>
                  <a:srgbClr val="000000"/>
                </a:solidFill>
                <a:latin typeface="Verdana"/>
              </a:rPr>
              <a:t>: Det er uklart, hvem der er teamleder, ikke alle i teamet får alle oplysninger, nye oplysninger kommunikeres ikk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anglende entydighed ved overflytning af patienter</a:t>
            </a:r>
            <a:r>
              <a:rPr b="0" lang="da-DK" sz="1000" spc="-1" strike="noStrike">
                <a:solidFill>
                  <a:srgbClr val="000000"/>
                </a:solidFill>
                <a:latin typeface="Verdana"/>
              </a:rPr>
              <a:t>: Oplysninger mangler om fx medicin, der ikke fremgår af medicinmodulet, kritiske blodprøvesvar, hvordan patienten er informeret, og hvem der har ansvar for hva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sikker mundtlig ordination af medicin</a:t>
            </a:r>
            <a:r>
              <a:rPr b="0" lang="da-DK" sz="1000" spc="-1" strike="noStrike">
                <a:solidFill>
                  <a:srgbClr val="000000"/>
                </a:solidFill>
                <a:latin typeface="Verdana"/>
              </a:rPr>
              <a:t>: Ordinationer kan misforstås pga. forskellig udtale, støj eller afbrydelser, enslydende præparatnavne (fx Panodil og Plendil), enslydende tal (5 eller 15) eller enslydende angivelser (mikrogram, milligra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klar rollefordeling mellem faggrupperne</a:t>
            </a:r>
            <a:r>
              <a:rPr b="0" lang="da-DK" sz="1000" spc="-1" strike="noStrike">
                <a:solidFill>
                  <a:srgbClr val="000000"/>
                </a:solidFill>
                <a:latin typeface="Verdana"/>
              </a:rPr>
              <a:t>: Hvem sender henvisningen? Hvem tager blodprøver? Hvem informerer de pårøren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indre hierarki</a:t>
            </a:r>
            <a:r>
              <a:rPr b="0" lang="da-DK" sz="1000" spc="-1" strike="noStrike">
                <a:solidFill>
                  <a:srgbClr val="000000"/>
                </a:solidFill>
                <a:latin typeface="Verdana"/>
              </a:rPr>
              <a:t>: I andre lande er lægen markant højere i hierarkiet end de andre faggrupper. Det skaber problemer, da de andre faggrupper af respekt for lægen ikke tør sige fra ved sikkerhedsproblemer. Det er umiddelbart et mindre problem i Danmark, men respekt for kolleger og andre faggrupper kan stadig betyde, at man ikke udtager sin bekymr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pørg</a:t>
            </a:r>
            <a:r>
              <a:rPr b="0" lang="da-DK" sz="1000" spc="-1" strike="noStrike">
                <a:solidFill>
                  <a:srgbClr val="000000"/>
                </a:solidFill>
                <a:latin typeface="Verdana"/>
              </a:rPr>
              <a:t>: </a:t>
            </a:r>
            <a:r>
              <a:rPr b="0" i="1" lang="da-DK" sz="1000" spc="-1" strike="noStrike">
                <a:solidFill>
                  <a:srgbClr val="000000"/>
                </a:solidFill>
                <a:latin typeface="Verdana"/>
              </a:rPr>
              <a:t>’Er det noget I genken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venstående bygger på opgørelser af danske analyser af alvorlige utilsigtede hændelser (kerneårsagsanalyser) og fokusinterviews med dansk sundhedspersonal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0920" y="692280"/>
            <a:ext cx="4556160" cy="341604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g: </a:t>
            </a:r>
            <a:r>
              <a:rPr b="0" i="1" lang="da-DK" sz="1000" spc="-1" strike="noStrike">
                <a:solidFill>
                  <a:srgbClr val="000000"/>
                </a:solidFill>
                <a:latin typeface="Verdana"/>
              </a:rPr>
              <a:t>’Det er ikke underligt, at der kan opstå kommunikationsproblemer i sundhedsvæsnet. For kender vi dem, vi arbejder sammen m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iv følgende eksempel på, hvor mange forskellige mennesker der fx kan mødes over en dårlig patien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ygeplejersken (rød – i alt 30 i vagtlaget) tilser patienten og tilkalder hjælp (sosu-ass. (gul – i alt 20 i vagtlaget), forvagt (blå – 8 i vagtlaget) og bagvagt (rød – 8 i vagtlaget)). Ganger man de fire tal får man sandsynligheden for, at det samme team arbejder sammen en anden ga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allet understreger betydningen af at sikkert samarbejde ikke overlades til tilfældighederne, men at der er standarder for samarbejde og kommunikation. </a:t>
            </a:r>
            <a:endParaRPr b="0" lang="en-US" sz="10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0920" y="692280"/>
            <a:ext cx="4556160" cy="341604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ltagerne finder frem til et relevant tværfagligt team fx et operationsteam (fx sectioteam) eller et tværfagligt team i skadestuen (traumeteam), modtagelsen (hjertestop), sengeafdelingen (stuegang) eller ambulatoriet (diabetes-behandlingsteam).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de 10-15 minutter diskuteres i plenum de faktorer, de har oplevet kendetegner godt teamsamarbejd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man ikke kan basere kvaliteten af en vare på, at personalet kender hinanden gik også op for særligt luftfarten i 1960érne og 1970’erne. Her betød information fra ’De sorte bokse’ , der optager kommunikationen i cockpittet i fly, at det blev kendt, at der oftere var tale om kommunikations- end tekniske problemer i de fly, der styrtede ned. Særligt flykatastrofen på Tenerife i 1977, hvor to fyldte fly stødte sammen på landingsbanen og over 500 mennesker omkom, gav startskuddet til at inddrage undervisning i teamledelse, kommunikation og samarbejde i ethvert led af uddannelsen af alt luftfartspersonale. Dette skyldtes bl.a. at man på optagelserne fra cockpittet i den ene maskine kunne høre, at co-piloten prøvede at kommunikere med sin kaptajn om det andet fly, der var på vej ud på landingsbanen, men at co-piloten ikke formåede at holde fast overfor en kaptajn, der ikke var åben for input fra underordne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CRM har betydet, at luftfarten i dag er karakteriseret ved en høj grad af sikkerhed, og forekomsten af utilsigtede hændelser i luftfarten er langt lavere end den tilsvarende for sundhedsvæsnet. I luftfarten har man siden 1970’erne arbejdet med rapportering af utilsigtede hændelser og CRM har været lovpligtigt for flypersonale i over 20 å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ahlberg, 2004, Helmreich 1999)</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0920" y="692280"/>
            <a:ext cx="4556160" cy="341604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den udviklingen af Crew Resource Management (CRM) i luftfarten er erfaringerne brugt i mange andre højrisikobrancher bl.a. den </a:t>
            </a:r>
            <a:r>
              <a:rPr b="1" lang="da-DK" sz="1000" spc="-1" strike="noStrike">
                <a:solidFill>
                  <a:srgbClr val="000000"/>
                </a:solidFill>
                <a:latin typeface="Verdana"/>
              </a:rPr>
              <a:t>petrokemiske industri</a:t>
            </a:r>
            <a:r>
              <a:rPr b="0" lang="da-DK" sz="1000" spc="-1" strike="noStrike">
                <a:solidFill>
                  <a:srgbClr val="000000"/>
                </a:solidFill>
                <a:latin typeface="Verdana"/>
              </a:rPr>
              <a:t> (her blev startskuddet Bhopal-katastrofen på Union Carbide fabrikken i Indien i 1984 der medførte ca. 15.000 dødsfald og 500.000 skadede (Dahlberg, 2004)) og i </a:t>
            </a:r>
            <a:r>
              <a:rPr b="1" lang="da-DK" sz="1000" spc="-1" strike="noStrike">
                <a:solidFill>
                  <a:srgbClr val="000000"/>
                </a:solidFill>
                <a:latin typeface="Verdana"/>
              </a:rPr>
              <a:t>kernekraftindustrien</a:t>
            </a:r>
            <a:r>
              <a:rPr b="0" lang="da-DK" sz="1000" spc="-1" strike="noStrike">
                <a:solidFill>
                  <a:srgbClr val="000000"/>
                </a:solidFill>
                <a:latin typeface="Verdana"/>
              </a:rPr>
              <a:t> (efter Tre Mile Ø-ulykken, der var meget tæt på en stor atom-katastrofe (1979) (Dahlberg, 2004)).</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å</a:t>
            </a:r>
            <a:r>
              <a:rPr b="1" lang="da-DK" sz="1000" spc="-1" strike="noStrike">
                <a:solidFill>
                  <a:srgbClr val="000000"/>
                </a:solidFill>
                <a:latin typeface="Verdana"/>
              </a:rPr>
              <a:t> McDonalds</a:t>
            </a:r>
            <a:r>
              <a:rPr b="0" lang="da-DK" sz="1000" spc="-1" strike="noStrike">
                <a:solidFill>
                  <a:srgbClr val="000000"/>
                </a:solidFill>
                <a:latin typeface="Verdana"/>
              </a:rPr>
              <a:t> anvendes de også sikker kommunikation (tjeksvar) og tjeklister, for at sikre, at det er den rigtige menu, der bliver udleveret, og at hygiejnen er høj. På McDonalds er en del af kvaliteten, at det er den rigtige mad man får udleveret, og derfor overlader man det ikke til tilfældighederne at kunden får en McFeast uden tomat med cola light og pomfritter og en lille </a:t>
            </a:r>
            <a:r>
              <a:rPr b="0" i="1" lang="da-DK" sz="1000" spc="-1" strike="noStrike">
                <a:solidFill>
                  <a:srgbClr val="000000"/>
                </a:solidFill>
                <a:latin typeface="Verdana"/>
              </a:rPr>
              <a:t>sundae</a:t>
            </a:r>
            <a:r>
              <a:rPr b="0" lang="da-DK" sz="1000" spc="-1" strike="noStrike">
                <a:solidFill>
                  <a:srgbClr val="000000"/>
                </a:solidFill>
                <a:latin typeface="Verdana"/>
              </a:rPr>
              <a:t> med karamel.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ige nu indføres undervisning i kommunikation og teamsamarbejde på en lang række </a:t>
            </a:r>
            <a:r>
              <a:rPr b="1" lang="da-DK" sz="1000" spc="-1" strike="noStrike">
                <a:solidFill>
                  <a:srgbClr val="000000"/>
                </a:solidFill>
                <a:latin typeface="Verdana"/>
              </a:rPr>
              <a:t>hospitaler i USA</a:t>
            </a:r>
            <a:r>
              <a:rPr b="0" lang="da-DK" sz="1000" spc="-1" strike="noStrike">
                <a:solidFill>
                  <a:srgbClr val="000000"/>
                </a:solidFill>
                <a:latin typeface="Verdana"/>
              </a:rPr>
              <a:t> bl.a. Harvard-hospitalerne, Kaiser Permanente, Veterans hospitalerne og på Vanderbilt University Medical Center. Og over 400 hospitaler tester SBAR – på dansk ISBAR – som der kommer mere om på dag 2 (for referencer: se ’Sikker Mundtlig Kommunikation. Baggrund, begreber og litteratu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Danmark har man mange års erfaring med simulatorbaseret undervisning i kommunikation, teamledelse og samarbejde på </a:t>
            </a:r>
            <a:r>
              <a:rPr b="1" lang="da-DK" sz="1000" spc="-1" strike="noStrike">
                <a:solidFill>
                  <a:srgbClr val="000000"/>
                </a:solidFill>
                <a:latin typeface="Verdana"/>
              </a:rPr>
              <a:t>Dansk Institut for Medicinsk Simulation</a:t>
            </a:r>
            <a:r>
              <a:rPr b="0" lang="da-DK" sz="1000" spc="-1" strike="noStrike">
                <a:solidFill>
                  <a:srgbClr val="000000"/>
                </a:solidFill>
                <a:latin typeface="Verdana"/>
              </a:rPr>
              <a:t>, der derfor har været en meget vigtig partner i udviklingen af denne undervisning (Andersen, 2005).</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er er det vigtigt at </a:t>
            </a:r>
            <a:r>
              <a:rPr b="1" lang="da-DK" sz="1000" spc="-1" strike="noStrike">
                <a:solidFill>
                  <a:srgbClr val="000000"/>
                </a:solidFill>
                <a:latin typeface="Verdana"/>
              </a:rPr>
              <a:t>konkretisere forventningerne</a:t>
            </a:r>
            <a:r>
              <a:rPr b="0" lang="da-DK" sz="1000" spc="-1" strike="noStrike">
                <a:solidFill>
                  <a:srgbClr val="000000"/>
                </a:solidFill>
                <a:latin typeface="Verdana"/>
              </a:rPr>
              <a:t> til deltagerne: </a:t>
            </a:r>
            <a:r>
              <a:rPr b="1" lang="da-DK" sz="1000" spc="-1" strike="noStrike">
                <a:solidFill>
                  <a:srgbClr val="000000"/>
                </a:solidFill>
                <a:latin typeface="Verdana"/>
              </a:rPr>
              <a:t>Hvem</a:t>
            </a:r>
            <a:r>
              <a:rPr b="0" lang="da-DK" sz="1000" spc="-1" strike="noStrike">
                <a:solidFill>
                  <a:srgbClr val="000000"/>
                </a:solidFill>
                <a:latin typeface="Verdana"/>
              </a:rPr>
              <a:t> skal de undervise og </a:t>
            </a:r>
            <a:r>
              <a:rPr b="1" lang="da-DK" sz="1000" spc="-1" strike="noStrike">
                <a:solidFill>
                  <a:srgbClr val="000000"/>
                </a:solidFill>
                <a:latin typeface="Verdana"/>
              </a:rPr>
              <a:t>hvornår</a:t>
            </a:r>
            <a:r>
              <a:rPr b="0" lang="da-DK" sz="1000" spc="-1" strike="noStrike">
                <a:solidFill>
                  <a:srgbClr val="000000"/>
                </a:solidFill>
                <a:latin typeface="Verdana"/>
              </a:rPr>
              <a:t>? Skal alle undervise eller kan der udvælges undervisere blandt deltagerne, som kan bakkes op af de øvrige deltagere fra fx samme afdeling? Allerede her kan de kommende undervisere blive i tvivl om tidsforbrug og logistik omkring undervisning i egen afdeling, og det er derfor meget vigtigt, at der er på dette tidspunkt er </a:t>
            </a:r>
            <a:r>
              <a:rPr b="1" lang="da-DK" sz="1000" spc="-1" strike="noStrike">
                <a:solidFill>
                  <a:srgbClr val="000000"/>
                </a:solidFill>
                <a:latin typeface="Verdana"/>
              </a:rPr>
              <a:t>tilsagn fra de respektive afdelings- eller sygehusledelser</a:t>
            </a:r>
            <a:r>
              <a:rPr b="0" lang="da-DK" sz="1000" spc="-1" strike="noStrike">
                <a:solidFill>
                  <a:srgbClr val="000000"/>
                </a:solidFill>
                <a:latin typeface="Verdana"/>
              </a:rPr>
              <a:t> om, hvordan undervisningen skal forløbe (fx temadage for hele personalet eller undervise personalet i mindre hold, der kan tages ud af den daglige drift).</a:t>
            </a:r>
            <a:endParaRPr b="0" lang="en-US" sz="10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0920" y="692280"/>
            <a:ext cx="4556160" cy="341604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Resultater af afprøvninger af uddannelse af sundhedspersonale i kommunikation, temaledelse og samarbejde  i sundhedsvæsn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verste venstre hjørne:</a:t>
            </a:r>
            <a:r>
              <a:rPr b="0" lang="da-DK" sz="1000" spc="-1" strike="noStrike">
                <a:solidFill>
                  <a:srgbClr val="000000"/>
                </a:solidFill>
                <a:latin typeface="Verdana"/>
              </a:rPr>
              <a:t> Indlæggelsestiden i en intensiv afdeling faldt fra i gennemsnit 2,2 dage til i gennemsnit 1,1 dage efter en uddannelse af personalet i Teamledelse, kommunikation og samarbejde. (Pronovost 2003)</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verste højre hjørne:</a:t>
            </a:r>
            <a:r>
              <a:rPr b="0" lang="da-DK" sz="1000" spc="-1" strike="noStrike">
                <a:solidFill>
                  <a:srgbClr val="000000"/>
                </a:solidFill>
                <a:latin typeface="Verdana"/>
              </a:rPr>
              <a:t> Sepsisraten er lavere blandt patienter på afdelinger, der har en god teamkultur i forhold til afdelinger med en ringere teamkultur (Sexton, 2006).</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e venstre hjørne: </a:t>
            </a:r>
            <a:r>
              <a:rPr b="0" lang="da-DK" sz="1000" spc="-1" strike="noStrike">
                <a:solidFill>
                  <a:srgbClr val="000000"/>
                </a:solidFill>
                <a:latin typeface="Verdana"/>
              </a:rPr>
              <a:t>Forekomsten af utilsigtede hændelser blandt præmature faldt fra med 47 pct. efter en indsats for styrket teamwork (Mann, 2006).</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e højre hjørne</a:t>
            </a:r>
            <a:r>
              <a:rPr b="0" lang="da-DK" sz="1000" spc="-1" strike="noStrike">
                <a:solidFill>
                  <a:srgbClr val="000000"/>
                </a:solidFill>
                <a:latin typeface="Verdana"/>
              </a:rPr>
              <a:t>: Der sås tilmed et fald i patientklager og erstatningsbegæringer fra 20 til 11/år i løbet af en treårig periode (= 15.000 fødsler) (Mann 2006).</a:t>
            </a:r>
            <a:endParaRPr b="0" lang="en-US" sz="10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venstående elementer, er de dele af Sikker Mundtlig Kommunikation, der er hentet fra CRM</a:t>
            </a:r>
            <a:endParaRPr b="0" lang="en-US" sz="10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0920" y="692280"/>
            <a:ext cx="4556160" cy="341604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g fx: ’Undervisningen er opbygget omkring kendskab til metoder til sikker kommunikation om patientbehandling og ved teamsamarbejde. I de enkelte moduler præsenteres disse to symboler til illustration af hhv. teori og praksis’.</a:t>
            </a:r>
            <a:endParaRPr b="0" lang="en-US" sz="10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0920" y="692280"/>
            <a:ext cx="4556160" cy="341604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første strategi kommer her og handler om en metode til at opnå enighed om, hvordan man kan kommunikere, nemlig tjeklister</a:t>
            </a:r>
            <a:endParaRPr b="0" lang="en-US" sz="10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0920" y="692280"/>
            <a:ext cx="4556160" cy="341604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lister kan anvendes, hvor man gentagne gange skal huske det samme vigtige indhold. (referencer til tjeklister bagerst i ’Sikker Mundtlig Kommunikation. Baggrund, begreber og litteratu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an kan drage paralleller til luftfartens tjeklister v. fx take-off og landing, de tjeklister der anvendes ved hjertestopbehandling og til bageopskrifter og huskesedl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lister bør udvikles af personale, patientsikkerhedsansvarlige og ledere i fællesskab for at have størst sandsynlighed for at nå deres mål: At medvirke til en mere effektiv og konsistent opgaveløs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dre tjeklister kan være en del af journalen, men tjeklister til kommunikation er personalet – ikke journalen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er kendt fra kernekraftindustrien (National Center for PatientSafety, 2000), at tjeklister (hvis de er tilgængelige og anvendes) er bedre til at forebygge utilsigtede hændelser end undervisning med det samme indhold. Hvis de to metoder supplerer hinanden, er chancen for implementering størst.</a:t>
            </a:r>
            <a:endParaRPr b="0" lang="en-US" sz="10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0920" y="692280"/>
            <a:ext cx="4556160" cy="341604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introduceres (er netop en samling af tjeklsiter), og deltagerne får at vide, at de kommer til at anvende håndbogen en del i løbet af kurset – særligt i de to sidste moduler, ’Kommunikation’ og teamdannelse’. </a:t>
            </a:r>
            <a:endParaRPr b="0" lang="en-US" sz="10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0920" y="692280"/>
            <a:ext cx="4556160" cy="341604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ort opsummering for at repetere hovedpointerne</a:t>
            </a:r>
            <a:endParaRPr b="0" lang="en-US" sz="1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kort baggrunden for undervisningen</a:t>
            </a: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a:t>
            </a:r>
            <a:r>
              <a:rPr b="1" lang="da-DK" sz="1000" spc="-1" strike="noStrike">
                <a:solidFill>
                  <a:srgbClr val="000000"/>
                </a:solidFill>
                <a:latin typeface="Verdana"/>
              </a:rPr>
              <a:t>overordnede mål på dag 1</a:t>
            </a:r>
            <a:r>
              <a:rPr b="0" lang="da-DK" sz="1000" spc="-1" strike="noStrike">
                <a:solidFill>
                  <a:srgbClr val="000000"/>
                </a:solidFill>
                <a:latin typeface="Verdana"/>
              </a:rPr>
              <a:t> er at motivere deltagerne til at arbejde med og undervise i sikker mundtlig kommunikation ved at give dem indsigt i teorien bag og baggrunden for at forebygge kommunikationsfejl i sundhedsvæsn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0920" y="692280"/>
            <a:ext cx="4556160" cy="341604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a:t>
            </a:r>
            <a:r>
              <a:rPr b="1" lang="da-DK" sz="1000" spc="-1" strike="noStrike">
                <a:solidFill>
                  <a:srgbClr val="000000"/>
                </a:solidFill>
                <a:latin typeface="Verdana"/>
              </a:rPr>
              <a:t>overordnede mål på dag 2</a:t>
            </a:r>
            <a:r>
              <a:rPr b="0" lang="da-DK" sz="1000" spc="-1" strike="noStrike">
                <a:solidFill>
                  <a:srgbClr val="000000"/>
                </a:solidFill>
                <a:latin typeface="Verdana"/>
              </a:rPr>
              <a:t> er at konkretisere løsningerne og give deltagerne mulighed for at øve og diskutere muligheder og barrierer for implementering. Undervisningen i Sikker Mundtlig Kommunikation indleder en proces for at styrke den mundtlige kommunikation på sygehuset/i afdelingen. Formålet med undervisningen er derfor, at de ikke bare selv skal lære, men også skal formidle undervisningen til medarbejderne i afdelingerne og få dem til at anvende de redskaber, de lærer.</a:t>
            </a: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g: ’Jeg vil nu bede jer vende jer mod jeres sidemand og finde ud af hvem vedkommende er: navn, faggruppe og afdeling og en enkelt personlig detalje. I får fem minutter. Derefter præsenterer I hinanden for rest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målet med øvelsen er at introducere deltagerne til hinanden i de tværfaglige grupper de sidder i, og gennem præsentationen at give underviserne indsigt i, hvem der er deltagere. Den enkelte personlige detalje vælger deltagerne selv, og den er ment som en isbry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lade dem introducere hinanden er mindre grænseoverskridende end at skulle introducere sig selv i en ny grupp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92280"/>
            <a:ext cx="4556160" cy="341604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Bed om at mobiltelefoner og hyl så vidt muligt slukkes eller sættes på lydløs og besvares udenfo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Præsenter evt. observatør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Fortæl om det uddelte material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Spørg til deres </a:t>
            </a:r>
            <a:r>
              <a:rPr b="1" lang="da-DK" sz="1000" spc="-1" strike="noStrike">
                <a:solidFill>
                  <a:srgbClr val="000000"/>
                </a:solidFill>
                <a:latin typeface="Verdana"/>
                <a:ea typeface="Times New Roman"/>
              </a:rPr>
              <a:t>forventninger. </a:t>
            </a:r>
            <a:r>
              <a:rPr b="0" lang="da-DK" sz="1000" spc="-1" strike="noStrike">
                <a:solidFill>
                  <a:srgbClr val="000000"/>
                </a:solidFill>
                <a:latin typeface="Verdana"/>
                <a:ea typeface="Times New Roman"/>
              </a:rPr>
              <a:t>Kommenter dem (for enten at være ambitiøse, realistiske eller evt. urealistiske, hvis de er det) – og saml op på disse i Modul E/modul 5, når undervisningen skal evaluer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Sig, at evalueringsskemaet gerne må udfyldes undervejs, så de gode inputs kommer m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ea typeface="Times New Roman"/>
              </a:rPr>
              <a:t>’</a:t>
            </a:r>
            <a:r>
              <a:rPr b="1" lang="da-DK" sz="1000" spc="-1" strike="noStrike">
                <a:solidFill>
                  <a:srgbClr val="000000"/>
                </a:solidFill>
                <a:latin typeface="Verdana"/>
                <a:ea typeface="Times New Roman"/>
              </a:rPr>
              <a:t>Undervisningsmiljø’:</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agen afsluttes ikke med en eksamen, så læring er op til den enkelte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kus på kommunikation og samarbejde – ikke på kliniske detalj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i er fortrolige om detaljer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skal være plads til refleksion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Indsigt i andre personalegruppers overvejels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Vigtigt, at deltage aktivt i øvelser – det giver det bedste resultat</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Til gengæld giver vi jer en indsigt i jeres hverdag I ikke tidligere har haft – og redskaber, der styrker kommunikationen</a:t>
            </a:r>
            <a:endParaRPr b="0" lang="en-US" sz="1000" spc="-1" strike="noStrike">
              <a:solidFill>
                <a:srgbClr val="000000"/>
              </a:solidFill>
              <a:latin typeface="Verdan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Husk at give deltagerne mulighed for at stille spørgsmål til programmet</a:t>
            </a:r>
            <a:endParaRPr b="0" lang="en-US" sz="1000" spc="-1" strike="noStrike">
              <a:solidFill>
                <a:srgbClr val="000000"/>
              </a:solidFill>
              <a:latin typeface="Verdan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50920" y="692280"/>
            <a:ext cx="4556160" cy="341604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formålet med modul 1. </a:t>
            </a: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38098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4800"/>
            </a:br>
            <a:r>
              <a:rPr b="1" lang="da-DK" sz="4400" spc="-1" strike="noStrike">
                <a:solidFill>
                  <a:srgbClr val="000000"/>
                </a:solidFill>
                <a:latin typeface="Verdana"/>
              </a:rPr>
              <a:t>Sikker </a:t>
            </a:r>
            <a:br>
              <a:rPr sz="4400"/>
            </a:br>
            <a:r>
              <a:rPr b="1" lang="da-DK" sz="4400" spc="-1" strike="noStrike">
                <a:solidFill>
                  <a:srgbClr val="000000"/>
                </a:solidFill>
                <a:latin typeface="Verdana"/>
              </a:rPr>
              <a:t>Mundtlig </a:t>
            </a:r>
            <a:br>
              <a:rPr sz="4400"/>
            </a:br>
            <a:r>
              <a:rPr b="1" lang="da-DK" sz="4400" spc="-1" strike="noStrike">
                <a:solidFill>
                  <a:srgbClr val="000000"/>
                </a:solidFill>
                <a:latin typeface="Verdana"/>
              </a:rPr>
              <a:t>Kommunikation</a:t>
            </a:r>
            <a:br>
              <a:rPr sz="4400"/>
            </a:b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60" y="74160"/>
            <a:ext cx="35053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n juleleg…</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2209680" y="2222640"/>
            <a:ext cx="4876920" cy="356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Teamsamarbejde</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868040"/>
            <a:ext cx="7772400" cy="37926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fini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o eller flere deltager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Definerede roll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ælles opgav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ælles må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n dynamisk pro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n afgrænset peri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20560" y="213840"/>
            <a:ext cx="55641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Resultater</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2193480"/>
            <a:ext cx="7772400" cy="29638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ærre fej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Bedre behandl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tørre medarbejdertilfredsh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tørre patienttilfred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066680"/>
            <a:ext cx="7772400" cy="4724640"/>
          </a:xfrm>
          <a:prstGeom prst="rect">
            <a:avLst/>
          </a:prstGeom>
          <a:solidFill>
            <a:srgbClr val="ffffff"/>
          </a:solidFill>
          <a:ln w="0">
            <a:noFill/>
          </a:ln>
        </p:spPr>
        <p:txBody>
          <a:bodyPr lIns="90000" rIns="90000" tIns="46800" bIns="46800" anchor="t">
            <a:normAutofit fontScale="95000"/>
          </a:bodyPr>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lederen koordinerer</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gennemføres briefing, opsummering og afrunding</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kommunikeres en plan</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fordeles roller og ansvar </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forudses sikkerhedsproblemer og vælges en strategi for løsning</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lederen opfordrer til at sige til og fra</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lederen er engageret og beslutsom</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giver udtryk for bekymringer, uvidenhed eller uklarheder </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bevarer situationsbevidsthed </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er opmærksomme på hinanden</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prioriterer udfra løbende vurdering</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siger til og fra ved sikkerhedsproblemer</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Kommunikationen er utvetydig, fri og direkte</a:t>
            </a:r>
            <a:endParaRPr b="0" lang="en-US" sz="2000" spc="-1" strike="noStrike">
              <a:solidFill>
                <a:srgbClr val="000000"/>
              </a:solidFill>
              <a:latin typeface="Times New Roman"/>
            </a:endParaRPr>
          </a:p>
        </p:txBody>
      </p:sp>
      <p:sp>
        <p:nvSpPr>
          <p:cNvPr id="73" name=""/>
          <p:cNvSpPr/>
          <p:nvPr/>
        </p:nvSpPr>
        <p:spPr>
          <a:xfrm>
            <a:off x="434880" y="6308640"/>
            <a:ext cx="521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f.: GIHRE, ANTS og TeamSTEPPS</a:t>
            </a:r>
            <a:endParaRPr b="0" lang="en-US" sz="1800" spc="-1" strike="noStrike">
              <a:solidFill>
                <a:srgbClr val="000000"/>
              </a:solidFill>
              <a:latin typeface="Times New Roman"/>
            </a:endParaRPr>
          </a:p>
        </p:txBody>
      </p:sp>
      <p:sp>
        <p:nvSpPr>
          <p:cNvPr id="74" name=""/>
          <p:cNvSpPr/>
          <p:nvPr/>
        </p:nvSpPr>
        <p:spPr>
          <a:xfrm>
            <a:off x="74520" y="74520"/>
            <a:ext cx="48006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Arial"/>
              </a:rPr>
              <a:t>Teamkompetenc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520" y="74160"/>
            <a:ext cx="5181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Utilsigtet hændelse</a:t>
            </a:r>
            <a:endParaRPr b="0" lang="en-US" sz="4000" spc="-1" strike="noStrike">
              <a:solidFill>
                <a:srgbClr val="000000"/>
              </a:solidFill>
              <a:latin typeface="Times New Roman"/>
            </a:endParaRPr>
          </a:p>
        </p:txBody>
      </p:sp>
      <p:sp>
        <p:nvSpPr>
          <p:cNvPr id="76" name=""/>
          <p:cNvSpPr/>
          <p:nvPr/>
        </p:nvSpPr>
        <p:spPr>
          <a:xfrm>
            <a:off x="611280" y="2060640"/>
            <a:ext cx="1728720" cy="3433680"/>
          </a:xfrm>
          <a:prstGeom prst="rect">
            <a:avLst/>
          </a:prstGeom>
          <a:solidFill>
            <a:srgbClr val="33cccc">
              <a:alpha val="50000"/>
            </a:srgbClr>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26920" y="14842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Skadevoldende hændelser</a:t>
            </a:r>
            <a:endParaRPr b="0" lang="en-US" sz="1800" spc="-1" strike="noStrike">
              <a:solidFill>
                <a:srgbClr val="000000"/>
              </a:solidFill>
              <a:latin typeface="Times New Roman"/>
            </a:endParaRPr>
          </a:p>
        </p:txBody>
      </p:sp>
      <p:sp>
        <p:nvSpPr>
          <p:cNvPr id="78" name=""/>
          <p:cNvSpPr/>
          <p:nvPr/>
        </p:nvSpPr>
        <p:spPr>
          <a:xfrm>
            <a:off x="4500720" y="1484280"/>
            <a:ext cx="38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Ikke skadevoldende hændelser</a:t>
            </a:r>
            <a:endParaRPr b="0" lang="en-US" sz="1800" spc="-1" strike="noStrike">
              <a:solidFill>
                <a:srgbClr val="000000"/>
              </a:solidFill>
              <a:latin typeface="Times New Roman"/>
            </a:endParaRPr>
          </a:p>
        </p:txBody>
      </p:sp>
      <p:sp>
        <p:nvSpPr>
          <p:cNvPr id="79" name=""/>
          <p:cNvSpPr/>
          <p:nvPr/>
        </p:nvSpPr>
        <p:spPr>
          <a:xfrm>
            <a:off x="2362320" y="2060640"/>
            <a:ext cx="3581280" cy="3425760"/>
          </a:xfrm>
          <a:prstGeom prst="rect">
            <a:avLst/>
          </a:prstGeom>
          <a:solidFill>
            <a:srgbClr val="00cc99">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276720" y="27082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Fejl</a:t>
            </a:r>
            <a:endParaRPr b="0" lang="en-US" sz="1800" spc="-1" strike="noStrike">
              <a:solidFill>
                <a:srgbClr val="000000"/>
              </a:solidFill>
              <a:latin typeface="Times New Roman"/>
            </a:endParaRPr>
          </a:p>
        </p:txBody>
      </p:sp>
      <p:sp>
        <p:nvSpPr>
          <p:cNvPr id="81" name=""/>
          <p:cNvSpPr/>
          <p:nvPr/>
        </p:nvSpPr>
        <p:spPr>
          <a:xfrm>
            <a:off x="395280" y="206064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Komplikationer</a:t>
            </a:r>
            <a:endParaRPr b="0" lang="en-US" sz="1800" spc="-1" strike="noStrike">
              <a:solidFill>
                <a:srgbClr val="000000"/>
              </a:solidFill>
              <a:latin typeface="Times New Roman"/>
            </a:endParaRPr>
          </a:p>
        </p:txBody>
      </p:sp>
      <p:sp>
        <p:nvSpPr>
          <p:cNvPr id="82" name=""/>
          <p:cNvSpPr/>
          <p:nvPr/>
        </p:nvSpPr>
        <p:spPr>
          <a:xfrm>
            <a:off x="755640" y="2492280"/>
            <a:ext cx="1354320" cy="179748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Patient, der angiver at kunne tåle penicillin får penicillin og går i allergisk chok</a:t>
            </a:r>
            <a:endParaRPr b="0" lang="en-US" sz="1600" spc="-1" strike="noStrike">
              <a:solidFill>
                <a:srgbClr val="000000"/>
              </a:solidFill>
              <a:latin typeface="Times New Roman"/>
            </a:endParaRPr>
          </a:p>
        </p:txBody>
      </p:sp>
      <p:sp>
        <p:nvSpPr>
          <p:cNvPr id="83" name=""/>
          <p:cNvSpPr/>
          <p:nvPr/>
        </p:nvSpPr>
        <p:spPr>
          <a:xfrm>
            <a:off x="3048120" y="3213000"/>
            <a:ext cx="2666880" cy="58068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Patient, der ikke kan tåle penicillin får penicillin,</a:t>
            </a:r>
            <a:endParaRPr b="0" lang="en-US" sz="1600" spc="-1" strike="noStrike">
              <a:solidFill>
                <a:srgbClr val="000000"/>
              </a:solidFill>
              <a:latin typeface="Times New Roman"/>
            </a:endParaRPr>
          </a:p>
        </p:txBody>
      </p:sp>
      <p:sp>
        <p:nvSpPr>
          <p:cNvPr id="84" name=""/>
          <p:cNvSpPr/>
          <p:nvPr/>
        </p:nvSpPr>
        <p:spPr>
          <a:xfrm>
            <a:off x="2362320" y="4648320"/>
            <a:ext cx="1676160" cy="58068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Det medfører et allergisk chok</a:t>
            </a:r>
            <a:endParaRPr b="0" lang="en-US" sz="1600" spc="-1" strike="noStrike">
              <a:solidFill>
                <a:srgbClr val="000000"/>
              </a:solidFill>
              <a:latin typeface="Times New Roman"/>
            </a:endParaRPr>
          </a:p>
        </p:txBody>
      </p:sp>
      <p:sp>
        <p:nvSpPr>
          <p:cNvPr id="85" name=""/>
          <p:cNvSpPr/>
          <p:nvPr/>
        </p:nvSpPr>
        <p:spPr>
          <a:xfrm>
            <a:off x="4191120" y="4581360"/>
            <a:ext cx="1523880" cy="82404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Det medfører dog ingen reaktion</a:t>
            </a:r>
            <a:endParaRPr b="0" lang="en-US" sz="1600" spc="-1" strike="noStrike">
              <a:solidFill>
                <a:srgbClr val="000000"/>
              </a:solidFill>
              <a:latin typeface="Times New Roman"/>
            </a:endParaRPr>
          </a:p>
        </p:txBody>
      </p:sp>
      <p:sp>
        <p:nvSpPr>
          <p:cNvPr id="86" name=""/>
          <p:cNvSpPr/>
          <p:nvPr/>
        </p:nvSpPr>
        <p:spPr>
          <a:xfrm flipH="1">
            <a:off x="3352320" y="4076640"/>
            <a:ext cx="381240" cy="381240"/>
          </a:xfrm>
          <a:prstGeom prst="line">
            <a:avLst/>
          </a:prstGeom>
          <a:ln w="3240">
            <a:solidFill>
              <a:srgbClr val="000000"/>
            </a:solidFill>
            <a:miter/>
            <a:tailEnd len="med" type="triangle" w="med"/>
          </a:ln>
        </p:spPr>
        <p:style>
          <a:lnRef idx="0"/>
          <a:fillRef idx="0"/>
          <a:effectRef idx="0"/>
          <a:fontRef idx="minor"/>
        </p:style>
        <p:txBody>
          <a:bodyPr lIns="18000" rIns="18000" tIns="46800" bIns="46800" anchor="ctr" anchorCtr="1">
            <a:noAutofit/>
          </a:bodyPr>
          <a:p>
            <a:endParaRPr b="0" lang="en-US" sz="2400" spc="-1" strike="noStrike">
              <a:solidFill>
                <a:srgbClr val="000000"/>
              </a:solidFill>
              <a:latin typeface="Times New Roman"/>
            </a:endParaRPr>
          </a:p>
        </p:txBody>
      </p:sp>
      <p:sp>
        <p:nvSpPr>
          <p:cNvPr id="87" name=""/>
          <p:cNvSpPr/>
          <p:nvPr/>
        </p:nvSpPr>
        <p:spPr>
          <a:xfrm>
            <a:off x="4495680" y="4005360"/>
            <a:ext cx="381240" cy="457200"/>
          </a:xfrm>
          <a:prstGeom prst="line">
            <a:avLst/>
          </a:prstGeom>
          <a:ln w="3240">
            <a:solidFill>
              <a:srgbClr val="000000"/>
            </a:solidFill>
            <a:miter/>
            <a:tailEnd len="med" type="triangle" w="med"/>
          </a:ln>
        </p:spPr>
        <p:style>
          <a:lnRef idx="0"/>
          <a:fillRef idx="0"/>
          <a:effectRef idx="0"/>
          <a:fontRef idx="minor"/>
        </p:style>
        <p:txBody>
          <a:bodyPr lIns="18000" rIns="18000" tIns="46800" bIns="46800" anchor="ctr" anchorCtr="1">
            <a:noAutofit/>
          </a:bodyPr>
          <a:p>
            <a:endParaRPr b="0" lang="en-US" sz="2400" spc="-1" strike="noStrike">
              <a:solidFill>
                <a:srgbClr val="000000"/>
              </a:solidFill>
              <a:latin typeface="Times New Roman"/>
            </a:endParaRPr>
          </a:p>
        </p:txBody>
      </p:sp>
      <p:sp>
        <p:nvSpPr>
          <p:cNvPr id="88" name=""/>
          <p:cNvSpPr/>
          <p:nvPr/>
        </p:nvSpPr>
        <p:spPr>
          <a:xfrm>
            <a:off x="5867280" y="2057400"/>
            <a:ext cx="2362320" cy="342900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012000" y="2849400"/>
            <a:ext cx="1996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Patient, der ikke kan tåle penicillin får ophældt penicillin, men i sidste øjeblik opdager sygeplejerske fejlen</a:t>
            </a:r>
            <a:endParaRPr b="0" lang="en-US" sz="1600" spc="-1" strike="noStrike">
              <a:solidFill>
                <a:srgbClr val="000000"/>
              </a:solidFill>
              <a:latin typeface="Times New Roman"/>
            </a:endParaRPr>
          </a:p>
        </p:txBody>
      </p:sp>
      <p:sp>
        <p:nvSpPr>
          <p:cNvPr id="90" name=""/>
          <p:cNvSpPr/>
          <p:nvPr/>
        </p:nvSpPr>
        <p:spPr>
          <a:xfrm>
            <a:off x="6095880" y="2108160"/>
            <a:ext cx="2133720" cy="36828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Nærhændelse</a:t>
            </a:r>
            <a:endParaRPr b="0" lang="en-US" sz="1800" spc="-1" strike="noStrike">
              <a:solidFill>
                <a:srgbClr val="000000"/>
              </a:solidFill>
              <a:latin typeface="Times New Roman"/>
            </a:endParaRPr>
          </a:p>
        </p:txBody>
      </p:sp>
      <p:sp>
        <p:nvSpPr>
          <p:cNvPr id="91" name=""/>
          <p:cNvSpPr/>
          <p:nvPr/>
        </p:nvSpPr>
        <p:spPr>
          <a:xfrm>
            <a:off x="1908000" y="5661000"/>
            <a:ext cx="54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F o r e b y g g e l i g e  h æ n d e l s e r</a:t>
            </a:r>
            <a:endParaRPr b="0" lang="en-US" sz="1800" spc="-1" strike="noStrike">
              <a:solidFill>
                <a:srgbClr val="000000"/>
              </a:solidFill>
              <a:latin typeface="Times New Roman"/>
            </a:endParaRPr>
          </a:p>
        </p:txBody>
      </p:sp>
      <p:sp>
        <p:nvSpPr>
          <p:cNvPr id="92" name=""/>
          <p:cNvSpPr/>
          <p:nvPr/>
        </p:nvSpPr>
        <p:spPr>
          <a:xfrm>
            <a:off x="468360" y="6345360"/>
            <a:ext cx="611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13800" y="1674720"/>
            <a:ext cx="3618720" cy="459720"/>
          </a:xfrm>
          <a:prstGeom prst="rect">
            <a:avLst/>
          </a:prstGeom>
          <a:solidFill>
            <a:srgbClr val="9999ff"/>
          </a:solid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gen hændelser 91%</a:t>
            </a:r>
            <a:endParaRPr b="0" lang="en-US" sz="2400" spc="-1" strike="noStrike">
              <a:solidFill>
                <a:srgbClr val="000000"/>
              </a:solidFill>
              <a:latin typeface="Times New Roman"/>
            </a:endParaRPr>
          </a:p>
        </p:txBody>
      </p:sp>
      <p:sp>
        <p:nvSpPr>
          <p:cNvPr id="94" name=""/>
          <p:cNvSpPr/>
          <p:nvPr/>
        </p:nvSpPr>
        <p:spPr>
          <a:xfrm>
            <a:off x="632448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837880" y="6324480"/>
            <a:ext cx="34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f.: www.dsi.dk/publikationer</a:t>
            </a:r>
            <a:endParaRPr b="0" lang="en-US" sz="1800" spc="-1" strike="noStrike">
              <a:solidFill>
                <a:srgbClr val="000000"/>
              </a:solidFill>
              <a:latin typeface="Times New Roman"/>
            </a:endParaRPr>
          </a:p>
        </p:txBody>
      </p:sp>
      <p:sp>
        <p:nvSpPr>
          <p:cNvPr id="96" name=""/>
          <p:cNvSpPr/>
          <p:nvPr/>
        </p:nvSpPr>
        <p:spPr>
          <a:xfrm>
            <a:off x="2063160" y="4876920"/>
            <a:ext cx="36507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Utilsigtede hændelser 9%</a:t>
            </a:r>
            <a:endParaRPr b="0" lang="en-US" sz="2400" spc="-1" strike="noStrike">
              <a:solidFill>
                <a:srgbClr val="000000"/>
              </a:solidFill>
              <a:latin typeface="Times New Roman"/>
            </a:endParaRPr>
          </a:p>
        </p:txBody>
      </p:sp>
      <p:sp>
        <p:nvSpPr>
          <p:cNvPr id="97" name=""/>
          <p:cNvSpPr/>
          <p:nvPr/>
        </p:nvSpPr>
        <p:spPr>
          <a:xfrm>
            <a:off x="6936840" y="2436840"/>
            <a:ext cx="1569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r>
              <a:rPr b="0" lang="da-DK" sz="2400" spc="-1" strike="noStrike">
                <a:solidFill>
                  <a:srgbClr val="000000"/>
                </a:solidFill>
                <a:latin typeface="Arial"/>
              </a:rPr>
              <a:t>Fejl” 40%</a:t>
            </a:r>
            <a:endParaRPr b="0" lang="en-US" sz="2400" spc="-1" strike="noStrike">
              <a:solidFill>
                <a:srgbClr val="000000"/>
              </a:solidFill>
              <a:latin typeface="Times New Roman"/>
            </a:endParaRPr>
          </a:p>
        </p:txBody>
      </p:sp>
      <p:sp>
        <p:nvSpPr>
          <p:cNvPr id="98" name=""/>
          <p:cNvSpPr/>
          <p:nvPr/>
        </p:nvSpPr>
        <p:spPr>
          <a:xfrm>
            <a:off x="5493600" y="4113360"/>
            <a:ext cx="359892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tandardbehandling 60%</a:t>
            </a:r>
            <a:endParaRPr b="0" lang="en-US" sz="2400" spc="-1" strike="noStrike">
              <a:solidFill>
                <a:srgbClr val="000000"/>
              </a:solidFill>
              <a:latin typeface="Times New Roman"/>
            </a:endParaRPr>
          </a:p>
        </p:txBody>
      </p:sp>
      <p:graphicFrame>
        <p:nvGraphicFramePr>
          <p:cNvPr id="99" name=""/>
          <p:cNvGraphicFramePr/>
          <p:nvPr/>
        </p:nvGraphicFramePr>
        <p:xfrm>
          <a:off x="1371600" y="5486400"/>
          <a:ext cx="5257800" cy="457200"/>
        </p:xfrm>
        <a:graphic>
          <a:graphicData uri="http://schemas.openxmlformats.org/drawingml/2006/table">
            <a:tbl>
              <a:tblPr/>
              <a:tblGrid>
                <a:gridCol w="525780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7 ekstra sengedage pr. utilsigtet hænde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0" name="" descr=""/>
          <p:cNvPicPr/>
          <p:nvPr/>
        </p:nvPicPr>
        <p:blipFill>
          <a:blip r:embed="rId1"/>
          <a:stretch/>
        </p:blipFill>
        <p:spPr>
          <a:xfrm>
            <a:off x="1523880" y="1762200"/>
            <a:ext cx="6096240" cy="3333600"/>
          </a:xfrm>
          <a:prstGeom prst="rect">
            <a:avLst/>
          </a:prstGeom>
          <a:ln w="0">
            <a:noFill/>
          </a:ln>
        </p:spPr>
      </p:pic>
      <p:sp>
        <p:nvSpPr>
          <p:cNvPr id="101" name="PlaceHolder 1"/>
          <p:cNvSpPr>
            <a:spLocks noGrp="1"/>
          </p:cNvSpPr>
          <p:nvPr>
            <p:ph type="title"/>
          </p:nvPr>
        </p:nvSpPr>
        <p:spPr>
          <a:xfrm>
            <a:off x="74520" y="74160"/>
            <a:ext cx="70106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tilsigtede hændelser i Danmark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520" y="74160"/>
            <a:ext cx="5640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fattelser af fejl 1</a:t>
            </a:r>
            <a:endParaRPr b="0" lang="en-US" sz="4000" spc="-1" strike="noStrike">
              <a:solidFill>
                <a:srgbClr val="000000"/>
              </a:solidFill>
              <a:latin typeface="Times New Roman"/>
            </a:endParaRPr>
          </a:p>
        </p:txBody>
      </p:sp>
      <p:sp>
        <p:nvSpPr>
          <p:cNvPr id="103" name="PlaceHolder 2"/>
          <p:cNvSpPr>
            <a:spLocks noGrp="1"/>
          </p:cNvSpPr>
          <p:nvPr>
            <p:ph/>
          </p:nvPr>
        </p:nvSpPr>
        <p:spPr>
          <a:xfrm>
            <a:off x="761760" y="1872720"/>
            <a:ext cx="7473960" cy="3994200"/>
          </a:xfrm>
          <a:prstGeom prst="rect">
            <a:avLst/>
          </a:prstGeom>
          <a:solidFill>
            <a:srgbClr val="ffffff"/>
          </a:solid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rPr>
              <a:t>Tidligere:</a:t>
            </a:r>
            <a:r>
              <a:rPr b="1" lang="da-DK" sz="3200" spc="-1" strike="noStrike">
                <a:solidFill>
                  <a:srgbClr val="cc0000"/>
                </a:solidFill>
                <a:latin typeface="Verdana"/>
              </a:rPr>
              <a:t> Individorienteret</a:t>
            </a:r>
            <a:r>
              <a:rPr b="0" lang="da-DK" sz="3200" spc="-1" strike="noStrike">
                <a:solidFill>
                  <a:srgbClr val="000000"/>
                </a:solidFill>
                <a:latin typeface="Verdana"/>
              </a:rPr>
              <a: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enneskelige fejl er en følge af vores glemsomhed, uopmærksomhed, ligegyldighed og skødesløshed.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Løsning: Sanktioner, skæld ud, irettesættelser, påtaler.</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14400" y="1905120"/>
            <a:ext cx="6934320" cy="3657600"/>
          </a:xfrm>
          <a:prstGeom prst="rect">
            <a:avLst/>
          </a:prstGeom>
          <a:solidFill>
            <a:srgbClr val="ffffff"/>
          </a:solid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rPr>
              <a:t>Nu:</a:t>
            </a:r>
            <a:r>
              <a:rPr b="1" lang="da-DK" sz="3200" spc="-1" strike="noStrike">
                <a:solidFill>
                  <a:srgbClr val="cc0000"/>
                </a:solidFill>
                <a:latin typeface="Verdana"/>
              </a:rPr>
              <a:t> Systemorienteret</a:t>
            </a:r>
            <a:r>
              <a:rPr b="0" lang="da-DK" sz="3200" spc="-1" strike="noStrike">
                <a:solidFill>
                  <a:srgbClr val="000000"/>
                </a:solidFill>
                <a:latin typeface="Verdana"/>
              </a:rPr>
              <a:t>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t er menneskeligt at fejle. Menneskelige fejl betragtes som et symptom på et organisatorisk problem. </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Løsning: Barrierer og sikkerhedsforanstaltninger</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
          <p:cNvSpPr/>
          <p:nvPr/>
        </p:nvSpPr>
        <p:spPr>
          <a:xfrm>
            <a:off x="74520" y="74520"/>
            <a:ext cx="573408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fattelser af fejl 2</a:t>
            </a:r>
            <a:endParaRPr b="0" lang="en-US" sz="4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74160"/>
            <a:ext cx="67057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Lov om Patientsikkerhed</a:t>
            </a:r>
            <a:endParaRPr b="0" lang="en-US" sz="4000" spc="-1" strike="noStrike">
              <a:solidFill>
                <a:srgbClr val="000000"/>
              </a:solidFill>
              <a:latin typeface="Times New Roman"/>
            </a:endParaRPr>
          </a:p>
        </p:txBody>
      </p:sp>
      <p:sp>
        <p:nvSpPr>
          <p:cNvPr id="107" name="PlaceHolder 2"/>
          <p:cNvSpPr>
            <a:spLocks noGrp="1"/>
          </p:cNvSpPr>
          <p:nvPr>
            <p:ph/>
          </p:nvPr>
        </p:nvSpPr>
        <p:spPr>
          <a:xfrm>
            <a:off x="685440" y="1980720"/>
            <a:ext cx="4343400" cy="4015080"/>
          </a:xfrm>
          <a:prstGeom prst="rect">
            <a:avLst/>
          </a:prstGeom>
          <a:solidFill>
            <a:srgbClr val="ffffff"/>
          </a:solidFill>
          <a:ln w="0">
            <a:noFill/>
          </a:ln>
        </p:spPr>
        <p:txBody>
          <a:bodyPr lIns="90000" rIns="90000" tIns="46800" bIns="46800" anchor="t">
            <a:normAutofit/>
          </a:bodyPr>
          <a:p>
            <a:pPr marL="343080" indent="-343080">
              <a:lnSpc>
                <a:spcPct val="9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Personalet er forpligtet til at rapportere utilsigtede hændelser</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ygehusene er forpligtet til at analysere og handle ud fra rapporterne</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undhedsstyrelsen er forpligtet til at formidle læring af hændelserne</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08720" y="1989000"/>
            <a:ext cx="2598480" cy="386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160" y="74160"/>
            <a:ext cx="6782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Lov om Patientsikkerhed </a:t>
            </a:r>
            <a:endParaRPr b="0" lang="en-US" sz="4000" spc="-1" strike="noStrike">
              <a:solidFill>
                <a:srgbClr val="000000"/>
              </a:solidFill>
              <a:latin typeface="Times New Roman"/>
            </a:endParaRPr>
          </a:p>
        </p:txBody>
      </p:sp>
      <p:sp>
        <p:nvSpPr>
          <p:cNvPr id="110" name="PlaceHolder 2"/>
          <p:cNvSpPr>
            <a:spLocks noGrp="1"/>
          </p:cNvSpPr>
          <p:nvPr>
            <p:ph/>
          </p:nvPr>
        </p:nvSpPr>
        <p:spPr>
          <a:xfrm>
            <a:off x="684360" y="1700280"/>
            <a:ext cx="7772400" cy="4114800"/>
          </a:xfrm>
          <a:prstGeom prst="rect">
            <a:avLst/>
          </a:prstGeom>
          <a:solidFill>
            <a:srgbClr val="ffff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	</a:t>
            </a:r>
            <a:r>
              <a:rPr b="0" lang="da-DK" sz="2800" spc="-1" strike="noStrike">
                <a:solidFill>
                  <a:srgbClr val="000000"/>
                </a:solidFill>
                <a:latin typeface="Verdana"/>
              </a:rPr>
              <a:t>’</a:t>
            </a:r>
            <a:r>
              <a:rPr b="0" lang="da-DK" sz="2800" spc="-1" strike="noStrike">
                <a:solidFill>
                  <a:srgbClr val="000000"/>
                </a:solidFill>
                <a:latin typeface="Verdana"/>
              </a:rPr>
              <a:t>En sundhedsperson, som rapporterer en utilsigtet hændelse, kan ikke </a:t>
            </a:r>
            <a:r>
              <a:rPr b="0" lang="da-DK" sz="2800" spc="-1" strike="noStrike">
                <a:solidFill>
                  <a:srgbClr val="cc0000"/>
                </a:solidFill>
                <a:latin typeface="Verdana"/>
              </a:rPr>
              <a:t>som følge af sin rapportering</a:t>
            </a:r>
            <a:r>
              <a:rPr b="0" lang="da-DK" sz="2800" spc="-1" strike="noStrike">
                <a:solidFill>
                  <a:srgbClr val="000000"/>
                </a:solidFill>
                <a:latin typeface="Verdana"/>
              </a:rPr>
              <a:t> underkastes disciplinære undersøgelser og foranstaltninger af ansættelsesmyndigheden, tilsynsmæssige reaktioner af Sundhedsstyrelsen eller strafferetlige sanktioner af domstolen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Verdana"/>
              </a:rPr>
              <a:t>Modul A</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000000"/>
                </a:solidFill>
                <a:latin typeface="Verdana"/>
              </a:rPr>
              <a:t>Introduk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52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ntal rapporterede hændelser</a:t>
            </a:r>
            <a:endParaRPr b="0" lang="en-US" sz="3200" spc="-1" strike="noStrike">
              <a:solidFill>
                <a:srgbClr val="000000"/>
              </a:solidFill>
              <a:latin typeface="Times New Roman"/>
            </a:endParaRPr>
          </a:p>
        </p:txBody>
      </p:sp>
      <p:sp>
        <p:nvSpPr>
          <p:cNvPr id="112" name=""/>
          <p:cNvSpPr/>
          <p:nvPr/>
        </p:nvSpPr>
        <p:spPr>
          <a:xfrm>
            <a:off x="304920" y="649116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f.: Dansk Patientsikkerheds Database/www.dpsd.dk</a:t>
            </a:r>
            <a:endParaRPr b="0" lang="en-US" sz="1800" spc="-1" strike="noStrike">
              <a:solidFill>
                <a:srgbClr val="000000"/>
              </a:solidFill>
              <a:latin typeface="Times New Roman"/>
            </a:endParaRPr>
          </a:p>
        </p:txBody>
      </p:sp>
      <p:sp>
        <p:nvSpPr>
          <p:cNvPr id="113" name=""/>
          <p:cNvSpPr/>
          <p:nvPr/>
        </p:nvSpPr>
        <p:spPr>
          <a:xfrm>
            <a:off x="1252440" y="5629320"/>
            <a:ext cx="5052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252440" y="5342040"/>
            <a:ext cx="5052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252440" y="5052960"/>
            <a:ext cx="50529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1252440" y="4765680"/>
            <a:ext cx="5052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252440" y="4478400"/>
            <a:ext cx="5052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252440" y="4200480"/>
            <a:ext cx="50529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1252440" y="3913200"/>
            <a:ext cx="5052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252440" y="3624120"/>
            <a:ext cx="50529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252440" y="3336840"/>
            <a:ext cx="50529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252440" y="3049560"/>
            <a:ext cx="5052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2133720" y="4495680"/>
            <a:ext cx="479160" cy="1295640"/>
          </a:xfrm>
          <a:prstGeom prst="rect">
            <a:avLst/>
          </a:prstGeom>
          <a:solidFill>
            <a:srgbClr val="99ae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332240" y="3124080"/>
            <a:ext cx="479520" cy="2667240"/>
          </a:xfrm>
          <a:prstGeom prst="rect">
            <a:avLst/>
          </a:prstGeom>
          <a:solidFill>
            <a:srgbClr val="99ae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4480" y="2781360"/>
            <a:ext cx="480960" cy="3009960"/>
          </a:xfrm>
          <a:prstGeom prst="rect">
            <a:avLst/>
          </a:prstGeom>
          <a:solidFill>
            <a:srgbClr val="99ae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32640" y="5791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Osaka"/>
              </a:rPr>
              <a:t>2004</a:t>
            </a:r>
            <a:endParaRPr b="0" lang="en-US" sz="2000" spc="-1" strike="noStrike">
              <a:solidFill>
                <a:srgbClr val="000000"/>
              </a:solidFill>
              <a:latin typeface="Times New Roman"/>
            </a:endParaRPr>
          </a:p>
        </p:txBody>
      </p:sp>
      <p:sp>
        <p:nvSpPr>
          <p:cNvPr id="127" name=""/>
          <p:cNvSpPr/>
          <p:nvPr/>
        </p:nvSpPr>
        <p:spPr>
          <a:xfrm>
            <a:off x="4288320" y="5791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Osaka"/>
              </a:rPr>
              <a:t>2005</a:t>
            </a:r>
            <a:endParaRPr b="0" lang="en-US" sz="2000" spc="-1" strike="noStrike">
              <a:solidFill>
                <a:srgbClr val="000000"/>
              </a:solidFill>
              <a:latin typeface="Times New Roman"/>
            </a:endParaRPr>
          </a:p>
        </p:txBody>
      </p:sp>
      <p:sp>
        <p:nvSpPr>
          <p:cNvPr id="128" name=""/>
          <p:cNvSpPr/>
          <p:nvPr/>
        </p:nvSpPr>
        <p:spPr>
          <a:xfrm>
            <a:off x="6323400" y="57913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Osaka"/>
              </a:rPr>
              <a:t>2006</a:t>
            </a:r>
            <a:endParaRPr b="0" lang="en-US" sz="2000" spc="-1" strike="noStrike">
              <a:solidFill>
                <a:srgbClr val="000000"/>
              </a:solidFill>
              <a:latin typeface="Times New Roman"/>
            </a:endParaRPr>
          </a:p>
        </p:txBody>
      </p:sp>
      <p:sp>
        <p:nvSpPr>
          <p:cNvPr id="129" name=""/>
          <p:cNvSpPr/>
          <p:nvPr/>
        </p:nvSpPr>
        <p:spPr>
          <a:xfrm>
            <a:off x="457200" y="1371600"/>
            <a:ext cx="99072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18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16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14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12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10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8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6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4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2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         </a:t>
            </a:r>
            <a:r>
              <a:rPr b="0" lang="da-DK" sz="2000" spc="-1" strike="noStrike">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160" y="74160"/>
            <a:ext cx="38862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Diskussion</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483920"/>
            <a:ext cx="7772400" cy="43210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gne eksempler: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Hvilke hændelser har I opleve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Har I rapporteret dem? Hvorf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Times New Roman"/>
              </a:rPr>
              <a:t>Hvad medførte rapporteringen?</a:t>
            </a:r>
            <a:r>
              <a:rPr b="0" lang="da-DK"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Times New Roman"/>
              </a:rPr>
              <a:t>Hvad er det største patientsikkerheds-problem i jeres hverdag?</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15 minutt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ver gruppe fremlægger derefter to eksempler på hændelser for res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520" y="74160"/>
            <a:ext cx="41911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Lokale forhold</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905120"/>
            <a:ext cx="7772400" cy="304776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Utilsigtede hændels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Patientsikkerh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Teamsamarbejd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nalys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15 minu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520" y="74160"/>
            <a:ext cx="6858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tilsigtede hændelser og kommunikation</a:t>
            </a:r>
            <a:endParaRPr b="0" lang="en-US" sz="2800" spc="-1" strike="noStrike">
              <a:solidFill>
                <a:srgbClr val="000000"/>
              </a:solidFill>
              <a:latin typeface="Times New Roman"/>
            </a:endParaRPr>
          </a:p>
        </p:txBody>
      </p:sp>
      <p:sp>
        <p:nvSpPr>
          <p:cNvPr id="135" name="PlaceHolder 2"/>
          <p:cNvSpPr>
            <a:spLocks noGrp="1"/>
          </p:cNvSpPr>
          <p:nvPr>
            <p:ph/>
          </p:nvPr>
        </p:nvSpPr>
        <p:spPr>
          <a:xfrm>
            <a:off x="685800" y="1523520"/>
            <a:ext cx="7772400" cy="399276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70 % af </a:t>
            </a:r>
            <a:r>
              <a:rPr b="0" i="1" lang="da-DK" sz="3200" spc="-1" strike="noStrike">
                <a:solidFill>
                  <a:srgbClr val="000000"/>
                </a:solidFill>
                <a:latin typeface="Verdana"/>
              </a:rPr>
              <a:t>alvorlige</a:t>
            </a:r>
            <a:r>
              <a:rPr b="0" lang="da-DK" sz="3200" spc="-1" strike="noStrike">
                <a:solidFill>
                  <a:srgbClr val="000000"/>
                </a:solidFill>
                <a:latin typeface="Verdana"/>
              </a:rPr>
              <a:t> utilsigtede hændelser skyldes helt eller delvist svigt i kommunikation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58 % i dansk opgørels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20 % af </a:t>
            </a:r>
            <a:r>
              <a:rPr b="0" i="1" lang="da-DK" sz="3200" spc="-1" strike="noStrike">
                <a:solidFill>
                  <a:srgbClr val="000000"/>
                </a:solidFill>
                <a:latin typeface="Verdana"/>
              </a:rPr>
              <a:t>alle</a:t>
            </a:r>
            <a:r>
              <a:rPr b="0" lang="da-DK" sz="3200" spc="-1" strike="noStrike">
                <a:solidFill>
                  <a:srgbClr val="000000"/>
                </a:solidFill>
                <a:latin typeface="Verdana"/>
              </a:rPr>
              <a:t> rapporterede hændelser skyldes sandsynligvis svigt i </a:t>
            </a:r>
            <a:r>
              <a:rPr b="0" i="1" lang="da-DK" sz="3200" spc="-1" strike="noStrike">
                <a:solidFill>
                  <a:srgbClr val="000000"/>
                </a:solidFill>
                <a:latin typeface="Verdana"/>
              </a:rPr>
              <a:t>mundtlig</a:t>
            </a:r>
            <a:r>
              <a:rPr b="0" lang="da-DK" sz="3200" spc="-1" strike="noStrike">
                <a:solidFill>
                  <a:srgbClr val="000000"/>
                </a:solidFill>
                <a:latin typeface="Verdana"/>
              </a:rPr>
              <a:t> kommunikation</a:t>
            </a:r>
            <a:endParaRPr b="0" lang="en-US" sz="3200" spc="-1" strike="noStrike">
              <a:solidFill>
                <a:srgbClr val="000000"/>
              </a:solidFill>
              <a:latin typeface="Times New Roman"/>
            </a:endParaRPr>
          </a:p>
        </p:txBody>
      </p:sp>
      <p:sp>
        <p:nvSpPr>
          <p:cNvPr id="136" name=""/>
          <p:cNvSpPr/>
          <p:nvPr/>
        </p:nvSpPr>
        <p:spPr>
          <a:xfrm>
            <a:off x="539640" y="566100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ref.:http://www.jointcommission.org/SentinelEvents/Statisti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ersonalets oplevelser af kommunikationsproblemer 1</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294920"/>
            <a:ext cx="7772400" cy="480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undhedspersonale </a:t>
            </a:r>
            <a:r>
              <a:rPr b="0" i="1" lang="da-DK" sz="2800" spc="-1" strike="noStrike">
                <a:solidFill>
                  <a:srgbClr val="000000"/>
                </a:solidFill>
                <a:latin typeface="Verdana"/>
              </a:rPr>
              <a:t>i USA</a:t>
            </a:r>
            <a:r>
              <a:rPr b="0" lang="da-DK" sz="2800" spc="-1" strike="noStrike">
                <a:solidFill>
                  <a:srgbClr val="000000"/>
                </a:solidFill>
                <a:latin typeface="Verdana"/>
              </a:rPr>
              <a:t> opfatter evnen til teamwork forskellig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e nyuddannede synes ikke, at de erfarne kirurger er gode til teamwork (</a:t>
            </a:r>
            <a:r>
              <a:rPr b="0" lang="da-DK" sz="2000" spc="-1" strike="noStrike">
                <a:solidFill>
                  <a:srgbClr val="000000"/>
                </a:solidFill>
                <a:latin typeface="Verdana"/>
              </a:rPr>
              <a:t>Sexton, 2000</a:t>
            </a:r>
            <a:r>
              <a:rPr b="0" lang="da-DK"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73 % af læger synes at sygepl. kommunikerer god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33 % af sygeplejerskerne synes, at læger kommunikerer godt</a:t>
            </a:r>
            <a:r>
              <a:rPr b="0" lang="da-DK" sz="2800" spc="-1" strike="noStrike">
                <a:solidFill>
                  <a:srgbClr val="000000"/>
                </a:solidFill>
                <a:latin typeface="Verdana"/>
              </a:rPr>
              <a:t> </a:t>
            </a:r>
            <a:r>
              <a:rPr b="0" lang="da-DK" sz="2000" spc="-1" strike="noStrike">
                <a:solidFill>
                  <a:srgbClr val="000000"/>
                </a:solidFill>
                <a:latin typeface="Verdana"/>
              </a:rPr>
              <a:t>(Thomas, 2003)</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30 % af danske læger har overvejet jobskifte af frygt for involvering i utilsigtede hændelser</a:t>
            </a:r>
            <a:r>
              <a:rPr b="0" lang="da-DK" sz="3200" spc="-1" strike="noStrike">
                <a:solidFill>
                  <a:srgbClr val="000000"/>
                </a:solidFill>
                <a:latin typeface="Verdana"/>
              </a:rPr>
              <a:t> </a:t>
            </a:r>
            <a:r>
              <a:rPr b="0" lang="da-DK" sz="2000" spc="-1" strike="noStrike">
                <a:solidFill>
                  <a:srgbClr val="000000"/>
                </a:solidFill>
                <a:latin typeface="Verdana"/>
              </a:rPr>
              <a:t>(Herman N, Andersen HB, 2002)</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ersonalets oplevelser af kommunikationsproblemer 2</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6192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klar telefonkommunik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klar kommunikation ved teamdannel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anglende entydighed ved overflytning af patient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kke-entydige mundtlige besked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klar rollefordeling mellem faggrupp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indre hierarki i Danmark end i andre lande (bl.a. U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352680" y="228600"/>
            <a:ext cx="1905120" cy="259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638680" y="2362320"/>
            <a:ext cx="3124440" cy="190476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76720" y="4038480"/>
            <a:ext cx="1981080" cy="266724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4920" y="2438280"/>
            <a:ext cx="3124080" cy="1600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3048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1 af 8</a:t>
            </a:r>
            <a:endParaRPr b="0" lang="en-US" sz="2400" spc="-1" strike="noStrike">
              <a:solidFill>
                <a:srgbClr val="000000"/>
              </a:solidFill>
              <a:latin typeface="Times New Roman"/>
            </a:endParaRPr>
          </a:p>
        </p:txBody>
      </p:sp>
      <p:sp>
        <p:nvSpPr>
          <p:cNvPr id="146" name=""/>
          <p:cNvSpPr/>
          <p:nvPr/>
        </p:nvSpPr>
        <p:spPr>
          <a:xfrm>
            <a:off x="2895480" y="3048120"/>
            <a:ext cx="7621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807000" y="15318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1 af 8</a:t>
            </a:r>
            <a:endParaRPr b="0" lang="en-US" sz="2400" spc="-1" strike="noStrike">
              <a:solidFill>
                <a:srgbClr val="000000"/>
              </a:solidFill>
              <a:latin typeface="Times New Roman"/>
            </a:endParaRPr>
          </a:p>
        </p:txBody>
      </p:sp>
      <p:sp>
        <p:nvSpPr>
          <p:cNvPr id="148" name=""/>
          <p:cNvSpPr/>
          <p:nvPr/>
        </p:nvSpPr>
        <p:spPr>
          <a:xfrm>
            <a:off x="3733920" y="50292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1 af 20</a:t>
            </a:r>
            <a:endParaRPr b="0" lang="en-US" sz="2400" spc="-1" strike="noStrike">
              <a:solidFill>
                <a:srgbClr val="000000"/>
              </a:solidFill>
              <a:latin typeface="Times New Roman"/>
            </a:endParaRPr>
          </a:p>
        </p:txBody>
      </p:sp>
      <p:sp>
        <p:nvSpPr>
          <p:cNvPr id="149" name=""/>
          <p:cNvSpPr/>
          <p:nvPr/>
        </p:nvSpPr>
        <p:spPr>
          <a:xfrm>
            <a:off x="6039000" y="31240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1 af 30</a:t>
            </a:r>
            <a:endParaRPr b="0" lang="en-US" sz="2400" spc="-1" strike="noStrike">
              <a:solidFill>
                <a:srgbClr val="000000"/>
              </a:solidFill>
              <a:latin typeface="Times New Roman"/>
            </a:endParaRPr>
          </a:p>
        </p:txBody>
      </p:sp>
      <p:sp>
        <p:nvSpPr>
          <p:cNvPr id="150" name=""/>
          <p:cNvSpPr/>
          <p:nvPr/>
        </p:nvSpPr>
        <p:spPr>
          <a:xfrm flipH="1" flipV="1">
            <a:off x="4267080" y="3809520"/>
            <a:ext cx="15264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5409720" y="3048120"/>
            <a:ext cx="685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4190760" y="2438280"/>
            <a:ext cx="1522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29000" y="32767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1:38.400</a:t>
            </a:r>
            <a:endParaRPr b="0" lang="en-US" sz="2800" spc="-1" strike="noStrike">
              <a:solidFill>
                <a:srgbClr val="000000"/>
              </a:solidFill>
              <a:latin typeface="Times New Roman"/>
            </a:endParaRPr>
          </a:p>
        </p:txBody>
      </p:sp>
      <p:sp>
        <p:nvSpPr>
          <p:cNvPr id="154" name=""/>
          <p:cNvSpPr/>
          <p:nvPr/>
        </p:nvSpPr>
        <p:spPr>
          <a:xfrm>
            <a:off x="395280" y="2781360"/>
            <a:ext cx="914400" cy="914400"/>
          </a:xfrm>
          <a:prstGeom prst="smileyFace">
            <a:avLst>
              <a:gd name="adj" fmla="val 9282"/>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1960" y="5610240"/>
            <a:ext cx="914400" cy="9144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73600" y="333360"/>
            <a:ext cx="914400" cy="914400"/>
          </a:xfrm>
          <a:prstGeom prst="smileyFace">
            <a:avLst>
              <a:gd name="adj" fmla="val 9282"/>
            </a:avLst>
          </a:prstGeom>
          <a:solidFill>
            <a:srgbClr val="a5b6d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45240" y="2852640"/>
            <a:ext cx="914400" cy="91440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520" y="74160"/>
            <a:ext cx="6935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Diskussion</a:t>
            </a:r>
            <a:endParaRPr b="0" lang="en-US" sz="4000" spc="-1" strike="noStrike">
              <a:solidFill>
                <a:srgbClr val="000000"/>
              </a:solidFill>
              <a:latin typeface="Times New Roman"/>
            </a:endParaRPr>
          </a:p>
        </p:txBody>
      </p:sp>
      <p:sp>
        <p:nvSpPr>
          <p:cNvPr id="159" name="PlaceHolder 2"/>
          <p:cNvSpPr>
            <a:spLocks noGrp="1"/>
          </p:cNvSpPr>
          <p:nvPr>
            <p:ph/>
          </p:nvPr>
        </p:nvSpPr>
        <p:spPr>
          <a:xfrm>
            <a:off x="468360" y="1557360"/>
            <a:ext cx="7989840" cy="438624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ilke team er I en del a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Tag udgangspunkt i et team,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	</a:t>
            </a:r>
            <a:r>
              <a:rPr b="0" lang="da-DK" sz="3200" spc="-1" strike="noStrike">
                <a:solidFill>
                  <a:srgbClr val="000000"/>
                </a:solidFill>
                <a:latin typeface="Verdana"/>
              </a:rPr>
              <a:t>som I synes fungerer god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vorfor fungerer teamet god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vad betyder det for patientsikkerhede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vilke egenskaber fra dette team vil I gerne overføre til andre team?</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10 minu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2" name="" descr=""/>
          <p:cNvPicPr/>
          <p:nvPr/>
        </p:nvPicPr>
        <p:blipFill>
          <a:blip r:embed="rId1"/>
          <a:stretch/>
        </p:blipFill>
        <p:spPr>
          <a:xfrm>
            <a:off x="0" y="-7920"/>
            <a:ext cx="9144000" cy="6865920"/>
          </a:xfrm>
          <a:prstGeom prst="rect">
            <a:avLst/>
          </a:prstGeom>
          <a:ln w="0">
            <a:noFill/>
          </a:ln>
        </p:spPr>
      </p:pic>
      <p:sp>
        <p:nvSpPr>
          <p:cNvPr id="163" name=""/>
          <p:cNvSpPr/>
          <p:nvPr/>
        </p:nvSpPr>
        <p:spPr>
          <a:xfrm>
            <a:off x="1371600" y="838080"/>
            <a:ext cx="586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ffffff"/>
                </a:solidFill>
                <a:latin typeface="Verdana"/>
              </a:rPr>
              <a:t>Baggrund</a:t>
            </a:r>
            <a:endParaRPr b="0" lang="en-US" sz="4400" spc="-1" strike="noStrike">
              <a:solidFill>
                <a:srgbClr val="000000"/>
              </a:solidFill>
              <a:latin typeface="Times New Roman"/>
            </a:endParaRPr>
          </a:p>
        </p:txBody>
      </p:sp>
      <p:sp>
        <p:nvSpPr>
          <p:cNvPr id="164" name=""/>
          <p:cNvSpPr/>
          <p:nvPr/>
        </p:nvSpPr>
        <p:spPr>
          <a:xfrm>
            <a:off x="468360" y="182880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ffffff"/>
                </a:solidFill>
                <a:latin typeface="Verdana"/>
              </a:rPr>
              <a:t>Crew Resource Management</a:t>
            </a:r>
            <a:endParaRPr b="0" lang="en-US" sz="3600" spc="-1" strike="noStrike">
              <a:solidFill>
                <a:srgbClr val="000000"/>
              </a:solidFill>
              <a:latin typeface="Times New Roman"/>
            </a:endParaRPr>
          </a:p>
        </p:txBody>
      </p:sp>
      <p:sp>
        <p:nvSpPr>
          <p:cNvPr id="165" name=""/>
          <p:cNvSpPr/>
          <p:nvPr/>
        </p:nvSpPr>
        <p:spPr>
          <a:xfrm>
            <a:off x="4615200" y="3990960"/>
            <a:ext cx="3693240" cy="18957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Verdana"/>
              </a:rPr>
              <a:t>Tværfaglighed</a:t>
            </a:r>
            <a:endParaRPr b="0" lang="en-US" sz="2800" spc="-1" strike="noStrike">
              <a:solidFill>
                <a:srgbClr val="000000"/>
              </a:solidFill>
              <a:latin typeface="Times New Roman"/>
            </a:endParaRPr>
          </a:p>
          <a:p>
            <a:pPr lvl="1" marL="45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Verdana"/>
              </a:rPr>
              <a:t>Teamledelse </a:t>
            </a:r>
            <a:endParaRPr b="0" lang="en-US" sz="2800" spc="-1" strike="noStrike">
              <a:solidFill>
                <a:srgbClr val="000000"/>
              </a:solidFill>
              <a:latin typeface="Times New Roman"/>
            </a:endParaRPr>
          </a:p>
          <a:p>
            <a:pPr lvl="1" marL="45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Verdana"/>
              </a:rPr>
              <a:t>Kommunikation</a:t>
            </a:r>
            <a:endParaRPr b="0" lang="en-US" sz="2800" spc="-1" strike="noStrike">
              <a:solidFill>
                <a:srgbClr val="000000"/>
              </a:solidFill>
              <a:latin typeface="Times New Roman"/>
            </a:endParaRPr>
          </a:p>
          <a:p>
            <a:pPr lvl="1" marL="45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Verdana"/>
              </a:rPr>
              <a:t>Samarbej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520" y="74160"/>
            <a:ext cx="6400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CRM i andre brancher</a:t>
            </a:r>
            <a:endParaRPr b="0" lang="en-US" sz="4000" spc="-1" strike="noStrike">
              <a:solidFill>
                <a:srgbClr val="000000"/>
              </a:solidFill>
              <a:latin typeface="Times New Roman"/>
            </a:endParaRPr>
          </a:p>
        </p:txBody>
      </p:sp>
      <p:sp>
        <p:nvSpPr>
          <p:cNvPr id="167" name="PlaceHolder 2"/>
          <p:cNvSpPr>
            <a:spLocks noGrp="1"/>
          </p:cNvSpPr>
          <p:nvPr>
            <p:ph/>
          </p:nvPr>
        </p:nvSpPr>
        <p:spPr>
          <a:xfrm>
            <a:off x="609480" y="1981080"/>
            <a:ext cx="7848720" cy="381024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Kernekraftindustri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n petrokemiske industr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cDonal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merikanske hospital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ansk Institut for Medicinsk Si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160" y="74160"/>
            <a:ext cx="6782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Undervisningens formål</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t lære jer </a:t>
            </a:r>
            <a:r>
              <a:rPr b="1" lang="da-DK" sz="2800" spc="-1" strike="noStrike">
                <a:solidFill>
                  <a:srgbClr val="000000"/>
                </a:solidFill>
                <a:latin typeface="Verdana"/>
              </a:rPr>
              <a:t>sikker mundtlig kommunikation</a:t>
            </a:r>
            <a:r>
              <a:rPr b="0" lang="da-DK" sz="2800" spc="-1" strike="noStrike">
                <a:solidFill>
                  <a:srgbClr val="000000"/>
                </a:solidFill>
                <a:latin typeface="Verdana"/>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t præsentere </a:t>
            </a:r>
            <a:r>
              <a:rPr b="1" lang="da-DK" sz="2800" spc="-1" strike="noStrike">
                <a:solidFill>
                  <a:srgbClr val="000000"/>
                </a:solidFill>
                <a:latin typeface="Verdana"/>
              </a:rPr>
              <a:t>undervisningsmateriale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t introducere </a:t>
            </a:r>
            <a:r>
              <a:rPr b="1" lang="da-DK" sz="2800" spc="-1" strike="noStrike">
                <a:solidFill>
                  <a:srgbClr val="000000"/>
                </a:solidFill>
                <a:latin typeface="Verdana"/>
              </a:rPr>
              <a:t>undervisningsmetod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Gennem undervisning, metoder og materialet at give jer viden til </a:t>
            </a:r>
            <a:r>
              <a:rPr b="1" lang="da-DK" sz="2800" spc="-1" strike="noStrike">
                <a:solidFill>
                  <a:srgbClr val="000000"/>
                </a:solidFill>
                <a:latin typeface="Verdana"/>
              </a:rPr>
              <a:t>selv at kunne underv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494480" y="150840"/>
            <a:ext cx="15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Introduction</a:t>
            </a:r>
            <a:endParaRPr b="0" lang="en-US" sz="1800" spc="-1" strike="noStrike">
              <a:solidFill>
                <a:srgbClr val="000000"/>
              </a:solidFill>
              <a:latin typeface="Times New Roman"/>
            </a:endParaRPr>
          </a:p>
        </p:txBody>
      </p:sp>
      <p:pic>
        <p:nvPicPr>
          <p:cNvPr id="169" name="" descr=""/>
          <p:cNvPicPr/>
          <p:nvPr/>
        </p:nvPicPr>
        <p:blipFill>
          <a:blip r:embed="rId1"/>
          <a:stretch/>
        </p:blipFill>
        <p:spPr>
          <a:xfrm>
            <a:off x="1371600" y="3957480"/>
            <a:ext cx="5657760" cy="2063880"/>
          </a:xfrm>
          <a:prstGeom prst="rect">
            <a:avLst/>
          </a:prstGeom>
          <a:ln w="0">
            <a:noFill/>
          </a:ln>
        </p:spPr>
      </p:pic>
      <p:sp>
        <p:nvSpPr>
          <p:cNvPr id="170" name=""/>
          <p:cNvSpPr/>
          <p:nvPr/>
        </p:nvSpPr>
        <p:spPr>
          <a:xfrm>
            <a:off x="1828800" y="5809680"/>
            <a:ext cx="3967200" cy="641520"/>
          </a:xfrm>
          <a:prstGeom prst="rect">
            <a:avLst/>
          </a:prstGeom>
          <a:noFill/>
          <a:ln w="0">
            <a:noFill/>
          </a:ln>
        </p:spPr>
        <p:style>
          <a:lnRef idx="0"/>
          <a:fillRef idx="0"/>
          <a:effectRef idx="0"/>
          <a:fontRef idx="minor"/>
        </p:style>
        <p:txBody>
          <a:bodyPr lIns="45720" rIns="4572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Mann, 2006)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Beth Israel Deaconess Medical Cent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Contemporary OB/GYN</a:t>
            </a:r>
            <a:endParaRPr b="0" lang="en-US" sz="1200" spc="-1" strike="noStrike">
              <a:solidFill>
                <a:srgbClr val="000000"/>
              </a:solidFill>
              <a:latin typeface="Times New Roman"/>
            </a:endParaRPr>
          </a:p>
        </p:txBody>
      </p:sp>
      <p:pic>
        <p:nvPicPr>
          <p:cNvPr id="171" name="" descr=""/>
          <p:cNvPicPr/>
          <p:nvPr/>
        </p:nvPicPr>
        <p:blipFill>
          <a:blip r:embed="rId2"/>
          <a:stretch/>
        </p:blipFill>
        <p:spPr>
          <a:xfrm>
            <a:off x="152280" y="1249200"/>
            <a:ext cx="3733920" cy="2251080"/>
          </a:xfrm>
          <a:prstGeom prst="rect">
            <a:avLst/>
          </a:prstGeom>
          <a:ln w="0">
            <a:noFill/>
          </a:ln>
        </p:spPr>
      </p:pic>
      <p:sp>
        <p:nvSpPr>
          <p:cNvPr id="172" name=""/>
          <p:cNvSpPr/>
          <p:nvPr/>
        </p:nvSpPr>
        <p:spPr>
          <a:xfrm>
            <a:off x="7282440" y="3500280"/>
            <a:ext cx="127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Sexton, 2006)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Johns Hopkins</a:t>
            </a:r>
            <a:endParaRPr b="0" lang="en-US" sz="1200" spc="-1" strike="noStrike">
              <a:solidFill>
                <a:srgbClr val="000000"/>
              </a:solidFill>
              <a:latin typeface="Times New Roman"/>
            </a:endParaRPr>
          </a:p>
        </p:txBody>
      </p:sp>
      <p:sp>
        <p:nvSpPr>
          <p:cNvPr id="173" name=""/>
          <p:cNvSpPr/>
          <p:nvPr/>
        </p:nvSpPr>
        <p:spPr>
          <a:xfrm>
            <a:off x="1047600" y="3503520"/>
            <a:ext cx="3308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Pronovost, 200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Johns Hopki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Journal of Critical Care Medicine</a:t>
            </a:r>
            <a:endParaRPr b="0" lang="en-US" sz="1200" spc="-1" strike="noStrike">
              <a:solidFill>
                <a:srgbClr val="000000"/>
              </a:solidFill>
              <a:latin typeface="Times New Roman"/>
            </a:endParaRPr>
          </a:p>
        </p:txBody>
      </p:sp>
      <p:pic>
        <p:nvPicPr>
          <p:cNvPr id="174" name="" descr=""/>
          <p:cNvPicPr/>
          <p:nvPr/>
        </p:nvPicPr>
        <p:blipFill>
          <a:blip r:embed="rId3"/>
          <a:stretch/>
        </p:blipFill>
        <p:spPr>
          <a:xfrm>
            <a:off x="3886200" y="228600"/>
            <a:ext cx="5060880" cy="3633840"/>
          </a:xfrm>
          <a:prstGeom prst="rect">
            <a:avLst/>
          </a:prstGeom>
          <a:ln w="0">
            <a:noFill/>
          </a:ln>
        </p:spPr>
      </p:pic>
      <p:sp>
        <p:nvSpPr>
          <p:cNvPr id="175" name=""/>
          <p:cNvSpPr/>
          <p:nvPr/>
        </p:nvSpPr>
        <p:spPr>
          <a:xfrm>
            <a:off x="4264200" y="63817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Tak til TeamSTEPPS</a:t>
            </a:r>
            <a:endParaRPr b="0" lang="en-US" sz="1800" spc="-1" strike="noStrike">
              <a:solidFill>
                <a:srgbClr val="000000"/>
              </a:solidFill>
              <a:latin typeface="Times New Roman"/>
            </a:endParaRPr>
          </a:p>
        </p:txBody>
      </p:sp>
      <p:sp>
        <p:nvSpPr>
          <p:cNvPr id="176" name=""/>
          <p:cNvSpPr/>
          <p:nvPr/>
        </p:nvSpPr>
        <p:spPr>
          <a:xfrm>
            <a:off x="74520" y="74520"/>
            <a:ext cx="756144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CRM i sundhedsvæsne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4520" y="74160"/>
            <a:ext cx="6858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CRM i Sikker Mundtlig Kommunikation</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295280"/>
            <a:ext cx="7772400" cy="4708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jek-sva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ief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opsummer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rund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værfagligh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samarbejde og ledelse kan læ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jekli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puts fra hele teamet styrker sikkerhe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560" y="189000"/>
            <a:ext cx="655308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Metoder</a:t>
            </a:r>
            <a:endParaRPr b="0" lang="en-US" sz="4000" spc="-1" strike="noStrike">
              <a:solidFill>
                <a:srgbClr val="000000"/>
              </a:solidFill>
              <a:latin typeface="Times New Roman"/>
            </a:endParaRPr>
          </a:p>
        </p:txBody>
      </p:sp>
      <p:pic>
        <p:nvPicPr>
          <p:cNvPr id="180" name="" descr=""/>
          <p:cNvPicPr/>
          <p:nvPr/>
        </p:nvPicPr>
        <p:blipFill>
          <a:blip r:embed="rId1"/>
          <a:stretch/>
        </p:blipFill>
        <p:spPr>
          <a:xfrm>
            <a:off x="539640" y="1919160"/>
            <a:ext cx="3748320" cy="4176720"/>
          </a:xfrm>
          <a:prstGeom prst="rect">
            <a:avLst/>
          </a:prstGeom>
          <a:ln w="0">
            <a:noFill/>
          </a:ln>
        </p:spPr>
      </p:pic>
      <p:sp>
        <p:nvSpPr>
          <p:cNvPr id="181" name=""/>
          <p:cNvSpPr/>
          <p:nvPr/>
        </p:nvSpPr>
        <p:spPr>
          <a:xfrm>
            <a:off x="950760" y="1989000"/>
            <a:ext cx="28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Verdana"/>
              </a:rPr>
              <a:t>Strategier</a:t>
            </a:r>
            <a:endParaRPr b="0" lang="en-US" sz="3200" spc="-1" strike="noStrike">
              <a:solidFill>
                <a:srgbClr val="000000"/>
              </a:solidFill>
              <a:latin typeface="Times New Roman"/>
            </a:endParaRPr>
          </a:p>
        </p:txBody>
      </p:sp>
      <p:pic>
        <p:nvPicPr>
          <p:cNvPr id="182" name="" descr="">
            <a:hlinkClick r:id="rId2"/>
          </p:cNvPr>
          <p:cNvPicPr/>
          <p:nvPr/>
        </p:nvPicPr>
        <p:blipFill>
          <a:blip r:embed="rId3"/>
          <a:stretch/>
        </p:blipFill>
        <p:spPr>
          <a:xfrm>
            <a:off x="4724280" y="2824200"/>
            <a:ext cx="3886200" cy="3043080"/>
          </a:xfrm>
          <a:prstGeom prst="rect">
            <a:avLst/>
          </a:prstGeom>
          <a:ln w="0">
            <a:noFill/>
          </a:ln>
        </p:spPr>
      </p:pic>
      <p:sp>
        <p:nvSpPr>
          <p:cNvPr id="183" name=""/>
          <p:cNvSpPr/>
          <p:nvPr/>
        </p:nvSpPr>
        <p:spPr>
          <a:xfrm>
            <a:off x="5257800" y="4937040"/>
            <a:ext cx="306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ffffff"/>
                </a:solidFill>
                <a:latin typeface="Verdana"/>
              </a:rPr>
              <a:t>Redskab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932360" y="2781360"/>
            <a:ext cx="3743280" cy="10080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Strategi</a:t>
            </a:r>
            <a:endParaRPr b="0" lang="en-US" sz="4400" spc="-1" strike="noStrike">
              <a:solidFill>
                <a:srgbClr val="000000"/>
              </a:solidFill>
              <a:latin typeface="Times New Roman"/>
            </a:endParaRPr>
          </a:p>
        </p:txBody>
      </p:sp>
      <p:pic>
        <p:nvPicPr>
          <p:cNvPr id="185" name="" descr=""/>
          <p:cNvPicPr/>
          <p:nvPr/>
        </p:nvPicPr>
        <p:blipFill>
          <a:blip r:embed="rId1"/>
          <a:stretch/>
        </p:blipFill>
        <p:spPr>
          <a:xfrm>
            <a:off x="755640" y="549360"/>
            <a:ext cx="4189320" cy="5545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4520" y="74160"/>
            <a:ext cx="43452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Tjeklister</a:t>
            </a:r>
            <a:endParaRPr b="0" lang="en-US" sz="4000" spc="-1" strike="noStrike">
              <a:solidFill>
                <a:srgbClr val="000000"/>
              </a:solidFill>
              <a:latin typeface="Times New Roman"/>
            </a:endParaRPr>
          </a:p>
        </p:txBody>
      </p:sp>
      <p:sp>
        <p:nvSpPr>
          <p:cNvPr id="187" name="PlaceHolder 2"/>
          <p:cNvSpPr>
            <a:spLocks noGrp="1"/>
          </p:cNvSpPr>
          <p:nvPr>
            <p:ph/>
          </p:nvPr>
        </p:nvSpPr>
        <p:spPr>
          <a:xfrm>
            <a:off x="3774600" y="1483920"/>
            <a:ext cx="5118120" cy="446580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gnitiv støt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ebygger fej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eholder kun det allervigtigs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før-og-læs: huskesedler, ekg-tolkn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Læs-og-udfør: opskrifter, hjertestopbehandling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vikling i fællesska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Jævnlig audit</a:t>
            </a:r>
            <a:endParaRPr b="0" lang="en-US" sz="2800" spc="-1" strike="noStrike">
              <a:solidFill>
                <a:srgbClr val="000000"/>
              </a:solidFill>
              <a:latin typeface="Times New Roman"/>
            </a:endParaRPr>
          </a:p>
        </p:txBody>
      </p:sp>
      <p:pic>
        <p:nvPicPr>
          <p:cNvPr id="188" name="" descr=""/>
          <p:cNvPicPr/>
          <p:nvPr/>
        </p:nvPicPr>
        <p:blipFill>
          <a:blip r:embed="rId1"/>
          <a:stretch/>
        </p:blipFill>
        <p:spPr>
          <a:xfrm>
            <a:off x="395280" y="2060640"/>
            <a:ext cx="2960640" cy="32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a:hlinkClick r:id="rId1"/>
          </p:cNvPr>
          <p:cNvPicPr/>
          <p:nvPr/>
        </p:nvPicPr>
        <p:blipFill>
          <a:blip r:embed="rId2"/>
          <a:stretch/>
        </p:blipFill>
        <p:spPr>
          <a:xfrm>
            <a:off x="1752480" y="1600200"/>
            <a:ext cx="4724640" cy="3699000"/>
          </a:xfrm>
          <a:prstGeom prst="rect">
            <a:avLst/>
          </a:prstGeom>
          <a:ln w="0">
            <a:noFill/>
          </a:ln>
        </p:spPr>
      </p:pic>
      <p:sp>
        <p:nvSpPr>
          <p:cNvPr id="190" name=""/>
          <p:cNvSpPr/>
          <p:nvPr/>
        </p:nvSpPr>
        <p:spPr>
          <a:xfrm>
            <a:off x="3048120" y="4343400"/>
            <a:ext cx="306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ffffff"/>
                </a:solidFill>
                <a:latin typeface="Verdana"/>
              </a:rPr>
              <a:t>Redskab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520" y="74160"/>
            <a:ext cx="55641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Håndbogen</a:t>
            </a:r>
            <a:endParaRPr b="0" lang="en-US" sz="4000" spc="-1" strike="noStrike">
              <a:solidFill>
                <a:srgbClr val="000000"/>
              </a:solidFill>
              <a:latin typeface="Times New Roman"/>
            </a:endParaRPr>
          </a:p>
        </p:txBody>
      </p:sp>
      <p:sp>
        <p:nvSpPr>
          <p:cNvPr id="192" name="PlaceHolder 2"/>
          <p:cNvSpPr>
            <a:spLocks noGrp="1"/>
          </p:cNvSpPr>
          <p:nvPr>
            <p:ph/>
          </p:nvPr>
        </p:nvSpPr>
        <p:spPr>
          <a:xfrm>
            <a:off x="685440" y="1557360"/>
            <a:ext cx="4606920" cy="371304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amling af tjeklist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ittellommeform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ersonalets – ikke journale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amme udgangspunkt for all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vt. lokal tilpasning</a:t>
            </a:r>
            <a:endParaRPr b="0" lang="en-US" sz="2800" spc="-1" strike="noStrike">
              <a:solidFill>
                <a:srgbClr val="000000"/>
              </a:solidFill>
              <a:latin typeface="Times New Roman"/>
            </a:endParaRPr>
          </a:p>
        </p:txBody>
      </p:sp>
      <p:pic>
        <p:nvPicPr>
          <p:cNvPr id="193" name="" descr=""/>
          <p:cNvPicPr/>
          <p:nvPr/>
        </p:nvPicPr>
        <p:blipFill>
          <a:blip r:embed="rId1"/>
          <a:stretch/>
        </p:blipFill>
        <p:spPr>
          <a:xfrm>
            <a:off x="5508720" y="1052640"/>
            <a:ext cx="3375000" cy="4875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160" y="74160"/>
            <a:ext cx="4343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a:t>
            </a:r>
            <a:endParaRPr b="0" lang="en-US" sz="4000" spc="-1" strike="noStrike">
              <a:solidFill>
                <a:srgbClr val="000000"/>
              </a:solidFill>
              <a:latin typeface="Times New Roman"/>
            </a:endParaRPr>
          </a:p>
        </p:txBody>
      </p:sp>
      <p:sp>
        <p:nvSpPr>
          <p:cNvPr id="195" name="PlaceHolder 2"/>
          <p:cNvSpPr>
            <a:spLocks noGrp="1"/>
          </p:cNvSpPr>
          <p:nvPr>
            <p:ph/>
          </p:nvPr>
        </p:nvSpPr>
        <p:spPr>
          <a:xfrm>
            <a:off x="684360" y="1483920"/>
            <a:ext cx="7772400" cy="432108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tilsigtede hændelser:</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al rapporteres og analyseres for at forbedre sundhedsvæsne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yldes ofte svigt i kommunikation ved teamdannelse, telefonsamtaler, overflytning af patienter, mundtlig ordination af medicin, uklar rollefordeling mellem faggrupper</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dannelse i Sikker Mundtlig Kommunikation kan medvirke til at styrke patientsikkerhe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Udvikling</a:t>
            </a: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nalyser af utilsigtede hændels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kusgruppeinterview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Videnskabelige publikation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ternationale anbefaling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re pilottes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ilsvarende undervisning fra hospitaler i U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503280" y="1897200"/>
          <a:ext cx="8389800" cy="3466800"/>
        </p:xfrm>
        <a:graphic>
          <a:graphicData uri="http://schemas.openxmlformats.org/drawingml/2006/table">
            <a:tbl>
              <a:tblPr/>
              <a:tblGrid>
                <a:gridCol w="3614760"/>
                <a:gridCol w="1208160"/>
                <a:gridCol w="3566880"/>
              </a:tblGrid>
              <a:tr h="51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Dag 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Modu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Indhol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8.30 – 9.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Ankomst og kaff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9.0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a:t>
                      </a:r>
                      <a:r>
                        <a:rPr b="1" lang="da-DK" sz="2000" spc="-1" strike="noStrike">
                          <a:solidFill>
                            <a:srgbClr val="000000"/>
                          </a:solidFill>
                          <a:latin typeface="Verdana"/>
                        </a:rPr>
                        <a:t>Introduktion til patientsikkerhed” inkl. kaffepau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12.00 – 13.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Froko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13.00 – 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a:t>
                      </a:r>
                      <a:r>
                        <a:rPr b="1" lang="da-DK" sz="2000" spc="-1" strike="noStrike">
                          <a:solidFill>
                            <a:srgbClr val="000000"/>
                          </a:solidFill>
                          <a:latin typeface="Verdana"/>
                        </a:rPr>
                        <a:t>Den menneskelige faktor” inkl. kaffepau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
          <p:cNvSpPr/>
          <p:nvPr/>
        </p:nvSpPr>
        <p:spPr>
          <a:xfrm>
            <a:off x="735120" y="23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70960" y="146160"/>
            <a:ext cx="228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Progra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684360" y="1268280"/>
          <a:ext cx="7772400" cy="4686480"/>
        </p:xfrm>
        <a:graphic>
          <a:graphicData uri="http://schemas.openxmlformats.org/drawingml/2006/table">
            <a:tbl>
              <a:tblPr/>
              <a:tblGrid>
                <a:gridCol w="3003480"/>
                <a:gridCol w="1208160"/>
                <a:gridCol w="356076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Dag 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Modu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Em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8.30 – 9.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Ankomst og kaff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9.00 – 9.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Spørgsmål til i gå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9.15 – 1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Kommunikation inkl. kaffepau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11.30 – 12.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Teamsamarbejd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12.30 – 13.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Froko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6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13.15 – 1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Teamsamarbejde, forts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8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14.30 – 14.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Kaffepau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14.45 – 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Implementering og evaluerin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
          <p:cNvSpPr/>
          <p:nvPr/>
        </p:nvSpPr>
        <p:spPr>
          <a:xfrm>
            <a:off x="599760" y="146160"/>
            <a:ext cx="228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Progra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74160"/>
            <a:ext cx="5715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Præsentationsrunde</a:t>
            </a:r>
            <a:r>
              <a:rPr b="0" lang="da-DK" sz="4000" spc="-1" strike="noStrike">
                <a:solidFill>
                  <a:srgbClr val="000000"/>
                </a:solidFill>
                <a:latin typeface="Verdana"/>
              </a:rPr>
              <a:t>	</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690560"/>
            <a:ext cx="7772400" cy="4114800"/>
          </a:xfrm>
          <a:prstGeom prst="rect">
            <a:avLst/>
          </a:prstGeom>
          <a:solidFill>
            <a:srgbClr val="fffff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	</a:t>
            </a:r>
            <a:r>
              <a:rPr b="0" lang="da-DK" sz="2800" spc="-1" strike="noStrike">
                <a:solidFill>
                  <a:srgbClr val="000000"/>
                </a:solidFill>
                <a:latin typeface="Verdana"/>
              </a:rPr>
              <a:t>Vend dig mod din sidemand og find ud af følgend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Navn, faggruppe, evt. afdeling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Én enkelt personlig detalje (kører éthjulet cykel eller var i Thailand sidste vint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ventninger til dagen?</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5 minu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60" y="74160"/>
            <a:ext cx="58676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Praktiske oplysninger</a:t>
            </a:r>
            <a:r>
              <a:rPr b="0" lang="da-DK" sz="4400" spc="-1" strike="noStrike">
                <a:solidFill>
                  <a:srgbClr val="000000"/>
                </a:solidFill>
                <a:latin typeface="Times New Roman"/>
              </a:rPr>
              <a:t>	</a:t>
            </a:r>
            <a:r>
              <a:rPr b="0" lang="da-DK"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700280"/>
            <a:ext cx="7772400" cy="4114800"/>
          </a:xfrm>
          <a:prstGeom prst="rect">
            <a:avLst/>
          </a:prstGeom>
          <a:solidFill>
            <a:srgbClr val="ffffff"/>
          </a:solidFill>
          <a:ln w="0">
            <a:noFill/>
          </a:ln>
        </p:spPr>
        <p:txBody>
          <a:bodyPr lIns="90000" rIns="90000" tIns="46800" bIns="46800"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obiltelefoner og hyl</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t uddelte material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Evt. observatører</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Undervisningsmiljø</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Evalueringsskema</a:t>
            </a:r>
            <a:endParaRPr b="0" lang="en-US" sz="3200" spc="-1" strike="noStrike">
              <a:solidFill>
                <a:srgbClr val="000000"/>
              </a:solidFill>
              <a:latin typeface="Times New Roman"/>
            </a:endParaRPr>
          </a:p>
          <a:p>
            <a:pPr marL="339480" indent="-3394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cc0000"/>
                </a:solidFill>
                <a:latin typeface="Verdana"/>
              </a:rPr>
              <a:t>Forventninger?</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pørgsmål?</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520" y="74160"/>
            <a:ext cx="5865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ormål med modul 1</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2422440"/>
            <a:ext cx="7772400" cy="29512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Introduktion til patientsikkerh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Introduktion til teamsamarbejd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Baggrund for Sikker Mundtlig Kommunik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3T08:55:26Z</cp:lastPrinted>
  <dcterms:modified xsi:type="dcterms:W3CDTF">2007-04-13T13:13:11Z</dcterms:modified>
  <cp:revision>94</cp:revision>
  <dc:subject/>
  <dc:title>TRYG cases</dc:title>
</cp:coreProperties>
</file>